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0.pct" ContentType="image/x-pict"/>
  <Override PartName="/ppt/media/image9.png" ContentType="image/png"/>
  <Override PartName="/ppt/media/image22.pct" ContentType="image/x-pict"/>
  <Override PartName="/ppt/media/image8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21.pct" ContentType="image/x-pict"/>
  <Override PartName="/ppt/media/image14.jpeg" ContentType="image/jpeg"/>
  <Override PartName="/ppt/media/image6.png" ContentType="image/png"/>
  <Override PartName="/ppt/media/image20.pct" ContentType="image/x-pict"/>
  <Override PartName="/ppt/media/image1.jpeg" ContentType="image/jpeg"/>
  <Override PartName="/ppt/media/image2.pct" ContentType="image/x-pict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852F-F87B-42BD-92BD-3933B2846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typical breeding experiment, Mendel would cross-pollinate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iz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two contrasting, true-breeding pea varie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ir hybrid offspring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 would then allow the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ybrids to self-pollinate to produce an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tudied at the University of Vienna from 1851 to 1853 where he was influenced by a physicist who encouraged experimentation and the application of mathematics to science and a botanist who aroused Mendel’s interest in the causes of variation in plants.  After the university, Mendel taught at the Brunn Modern School and lived in the local monast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nks at this monastery had a long tradition of interest in the breeding of plants, including peas. Around 1857, Mendel began breeding garden peas to study inheri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nkled seeds in pea plants with two copies of the recessive allele are due to the accumulation of monosaccharides and excess water in seeds because of the lack of a key enzyme. The seeds wrinkle when they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homozygous dominants and heterozygotes produce enough enzyme to convert all the monosaccharides into starch and form smooth seeds when they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filial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typical breeding experiment, Mendel would cross-pollinate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iz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two contrasting, true-breeding pea varie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ir hybrid offspring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 would then allow the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ybrids to self-pollinate to produce an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7FFB1-11E5-4C7B-9517-CC334D4E3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4F18-30DE-46FF-9BCC-C5D0D334B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043A-4981-4C48-8099-6503C1C33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64C9-F7E7-4B01-B36C-1D39098E6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BA43-40DA-41CC-AFAA-CAB15BDA9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E24FE-6619-4A29-AAE2-5374B11C8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E659-E4DB-4AE2-A357-6CE2368D3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4372-DA19-47E8-BF71-0496C3255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B8E1-E169-4D81-8815-54ABCFE26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39F4-747C-4078-A4A5-9AF9B23E1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5C1F-B3C6-48E5-97A6-E146A4ABD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DEBBF-FAC1-4FFF-A905-A153BBBCC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9613-E497-400A-954D-F6943F9912A6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1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5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10.pct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ct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2840" y="1922040"/>
            <a:ext cx="541008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tics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&amp;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Work of Mende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730920" y="380880"/>
            <a:ext cx="2413080" cy="2971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3944880"/>
            <a:ext cx="3200400" cy="2913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rcRect l="0" t="2252" r="45001" b="0"/>
          <a:stretch/>
        </p:blipFill>
        <p:spPr>
          <a:xfrm>
            <a:off x="7467480" y="4495680"/>
            <a:ext cx="1487520" cy="198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9000" t="66008" r="75379" b="7504"/>
          <a:stretch/>
        </p:blipFill>
        <p:spPr>
          <a:xfrm>
            <a:off x="5410080" y="32868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rcRect l="78757" t="66008" r="4500" b="7504"/>
          <a:stretch/>
        </p:blipFill>
        <p:spPr>
          <a:xfrm>
            <a:off x="6253200" y="336600"/>
            <a:ext cx="75888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king cross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n represent alleles as lette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lower color allele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ue-breeding purple-flower pea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ue-breeding white-flower pea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822560" y="4114440"/>
            <a:ext cx="2486880" cy="794880"/>
            <a:chOff x="4822560" y="4114440"/>
            <a:chExt cx="2486880" cy="794880"/>
          </a:xfrm>
        </p:grpSpPr>
        <p:sp>
          <p:nvSpPr>
            <p:cNvPr id="197" name=""/>
            <p:cNvSpPr/>
            <p:nvPr/>
          </p:nvSpPr>
          <p:spPr>
            <a:xfrm>
              <a:off x="4822560" y="4114440"/>
              <a:ext cx="9579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cc0000"/>
                  </a:solidFill>
                  <a:latin typeface="Arial"/>
                </a:rPr>
                <a:t>PP</a:t>
              </a:r>
              <a:endParaRPr b="0" lang="en-US" sz="4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73760" y="4174560"/>
              <a:ext cx="44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0" lang="en-US" sz="3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15560" y="4114440"/>
              <a:ext cx="893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600" spc="-1" strike="noStrike">
                  <a:solidFill>
                    <a:srgbClr val="cc0000"/>
                  </a:solidFill>
                  <a:latin typeface="Arial"/>
                </a:rPr>
                <a:t>pp</a:t>
              </a:r>
              <a:endParaRPr b="0" lang="en-US" sz="4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681880" y="5682960"/>
            <a:ext cx="926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i="1" lang="en-US" sz="46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4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825560" y="4095720"/>
            <a:ext cx="2555640" cy="2500200"/>
            <a:chOff x="1825560" y="4095720"/>
            <a:chExt cx="2555640" cy="2500200"/>
          </a:xfrm>
        </p:grpSpPr>
        <p:sp>
          <p:nvSpPr>
            <p:cNvPr id="202" name=""/>
            <p:cNvSpPr/>
            <p:nvPr/>
          </p:nvSpPr>
          <p:spPr>
            <a:xfrm>
              <a:off x="1839960" y="578016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35280" y="44024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2282760" y="4130280"/>
              <a:ext cx="71892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2"/>
            <a:srcRect l="78757" t="66008" r="4500" b="7504"/>
            <a:stretch/>
          </p:blipFill>
          <p:spPr>
            <a:xfrm>
              <a:off x="3514680" y="4130280"/>
              <a:ext cx="758880" cy="8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124080" y="4724280"/>
              <a:ext cx="228600" cy="671040"/>
            </a:xfrm>
            <a:prstGeom prst="downArrow">
              <a:avLst>
                <a:gd name="adj1" fmla="val 50000"/>
                <a:gd name="adj2" fmla="val 73386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36600" y="4321800"/>
              <a:ext cx="401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3"/>
            <a:srcRect l="9000" t="66008" r="75379" b="7504"/>
            <a:stretch/>
          </p:blipFill>
          <p:spPr>
            <a:xfrm>
              <a:off x="2877840" y="5499000"/>
              <a:ext cx="719280" cy="91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240640" y="49953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urpl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46000" y="499536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96760" y="625104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 purpl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25560" y="4095720"/>
              <a:ext cx="2555640" cy="250020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rot="5400000">
            <a:off x="5729400" y="4991040"/>
            <a:ext cx="768240" cy="609840"/>
          </a:xfrm>
          <a:custGeom>
            <a:avLst/>
            <a:gdLst>
              <a:gd name="textAreaLeft" fmla="*/ 119880 w 768240"/>
              <a:gd name="textAreaRight" fmla="*/ 672480 w 7682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6249960"/>
            <a:ext cx="1905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440" y="5603760"/>
            <a:ext cx="1570680" cy="91296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ne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87320" y="5232240"/>
            <a:ext cx="784800" cy="5580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3: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767960" y="5238360"/>
            <a:ext cx="5550840" cy="1544760"/>
            <a:chOff x="1767960" y="5238360"/>
            <a:chExt cx="5550840" cy="1544760"/>
          </a:xfrm>
        </p:grpSpPr>
        <p:grpSp>
          <p:nvGrpSpPr>
            <p:cNvPr id="218" name=""/>
            <p:cNvGrpSpPr/>
            <p:nvPr/>
          </p:nvGrpSpPr>
          <p:grpSpPr>
            <a:xfrm>
              <a:off x="1767960" y="5238360"/>
              <a:ext cx="2663280" cy="1544760"/>
              <a:chOff x="1767960" y="5238360"/>
              <a:chExt cx="2663280" cy="1544760"/>
            </a:xfrm>
          </p:grpSpPr>
          <p:sp>
            <p:nvSpPr>
              <p:cNvPr id="219" name=""/>
              <p:cNvSpPr/>
              <p:nvPr/>
            </p:nvSpPr>
            <p:spPr>
              <a:xfrm>
                <a:off x="1767960" y="5238360"/>
                <a:ext cx="266328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75%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5b03b3"/>
                    </a:solidFill>
                    <a:latin typeface="Arial"/>
                  </a:rPr>
                  <a:t>purple-flower peas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1901520" y="5868720"/>
                <a:ext cx="2396520" cy="914400"/>
                <a:chOff x="1901520" y="5868720"/>
                <a:chExt cx="2396520" cy="914400"/>
              </a:xfrm>
            </p:grpSpPr>
            <p:pic>
              <p:nvPicPr>
                <p:cNvPr id="221" name="" descr=""/>
                <p:cNvPicPr/>
                <p:nvPr/>
              </p:nvPicPr>
              <p:blipFill>
                <a:blip r:embed="rId1"/>
                <a:srcRect l="9000" t="66008" r="75379" b="7504"/>
                <a:stretch/>
              </p:blipFill>
              <p:spPr>
                <a:xfrm>
                  <a:off x="1901520" y="586872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2"/>
                <a:srcRect l="9000" t="66008" r="75379" b="7504"/>
                <a:stretch/>
              </p:blipFill>
              <p:spPr>
                <a:xfrm>
                  <a:off x="2739240" y="586872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3"/>
                <a:srcRect l="9000" t="66008" r="75379" b="7504"/>
                <a:stretch/>
              </p:blipFill>
              <p:spPr>
                <a:xfrm>
                  <a:off x="3579120" y="586872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24" name=""/>
            <p:cNvGrpSpPr/>
            <p:nvPr/>
          </p:nvGrpSpPr>
          <p:grpSpPr>
            <a:xfrm>
              <a:off x="4795560" y="5238360"/>
              <a:ext cx="2523240" cy="1524240"/>
              <a:chOff x="4795560" y="5238360"/>
              <a:chExt cx="2523240" cy="1524240"/>
            </a:xfrm>
          </p:grpSpPr>
          <p:sp>
            <p:nvSpPr>
              <p:cNvPr id="225" name=""/>
              <p:cNvSpPr/>
              <p:nvPr/>
            </p:nvSpPr>
            <p:spPr>
              <a:xfrm>
                <a:off x="4795560" y="5238360"/>
                <a:ext cx="252324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ヒラギノ角ゴ Pro W3"/>
                  </a:rPr>
                  <a:t>_x0008__x0008_</a:t>
                </a: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25%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white-flower peas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pic>
            <p:nvPicPr>
              <p:cNvPr id="226" name="" descr=""/>
              <p:cNvPicPr/>
              <p:nvPr/>
            </p:nvPicPr>
            <p:blipFill>
              <a:blip r:embed="rId4"/>
              <a:srcRect l="78757" t="66008" r="4500" b="7504"/>
              <a:stretch/>
            </p:blipFill>
            <p:spPr>
              <a:xfrm>
                <a:off x="5678640" y="5868720"/>
                <a:ext cx="758880" cy="893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7" name=""/>
          <p:cNvSpPr/>
          <p:nvPr/>
        </p:nvSpPr>
        <p:spPr>
          <a:xfrm>
            <a:off x="6050160" y="630468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65680" y="630468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90880" y="630468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02040" y="630468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ooking closer at Mendel’s w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29080" y="205740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7840" y="1576440"/>
            <a:ext cx="482040" cy="550800"/>
          </a:xfrm>
          <a:custGeom>
            <a:avLst/>
            <a:gdLst>
              <a:gd name="textAreaLeft" fmla="*/ 23400 w 482040"/>
              <a:gd name="textAreaRight" fmla="*/ 458640 w 482040"/>
              <a:gd name="textAreaTop" fmla="*/ 23400 h 550800"/>
              <a:gd name="textAreaBottom" fmla="*/ 527400 h 550800"/>
            </a:gdLst>
            <a:ahLst/>
            <a:rect l="textAreaLeft" t="textAreaTop" r="textAreaRight" b="textAreaBottom"/>
            <a:pathLst>
              <a:path w="21600" h="24679">
                <a:moveTo>
                  <a:pt x="3600" y="0"/>
                </a:moveTo>
                <a:arcTo wR="3600" hR="3600" stAng="16200000" swAng="-5400000"/>
                <a:lnTo>
                  <a:pt x="0" y="21079"/>
                </a:lnTo>
                <a:arcTo wR="3600" hR="3600" stAng="10800000" swAng="-5400000"/>
                <a:lnTo>
                  <a:pt x="18000" y="246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48080" y="1512360"/>
            <a:ext cx="4017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693080" y="1369800"/>
            <a:ext cx="2663280" cy="1540080"/>
            <a:chOff x="1693080" y="1369800"/>
            <a:chExt cx="2663280" cy="1540080"/>
          </a:xfrm>
        </p:grpSpPr>
        <p:sp>
          <p:nvSpPr>
            <p:cNvPr id="236" name=""/>
            <p:cNvSpPr/>
            <p:nvPr/>
          </p:nvSpPr>
          <p:spPr>
            <a:xfrm>
              <a:off x="1693080" y="1369800"/>
              <a:ext cx="266328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b03b3"/>
                  </a:solidFill>
                  <a:latin typeface="Arial"/>
                </a:rPr>
                <a:t>true-breeding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b03b3"/>
                  </a:solidFill>
                  <a:latin typeface="Arial"/>
                </a:rPr>
                <a:t>purple-flower 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5"/>
            <a:srcRect l="9000" t="66008" r="75379" b="7504"/>
            <a:stretch/>
          </p:blipFill>
          <p:spPr>
            <a:xfrm>
              <a:off x="2679480" y="1995480"/>
              <a:ext cx="719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"/>
          <p:cNvGrpSpPr/>
          <p:nvPr/>
        </p:nvGrpSpPr>
        <p:grpSpPr>
          <a:xfrm>
            <a:off x="4836600" y="1369800"/>
            <a:ext cx="2523240" cy="1519560"/>
            <a:chOff x="4836600" y="1369800"/>
            <a:chExt cx="2523240" cy="1519560"/>
          </a:xfrm>
        </p:grpSpPr>
        <p:sp>
          <p:nvSpPr>
            <p:cNvPr id="239" name=""/>
            <p:cNvSpPr/>
            <p:nvPr/>
          </p:nvSpPr>
          <p:spPr>
            <a:xfrm>
              <a:off x="4836600" y="1369800"/>
              <a:ext cx="252324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rue-breeding 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hite-flower 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6"/>
            <a:srcRect l="78757" t="66008" r="4500" b="7504"/>
            <a:stretch/>
          </p:blipFill>
          <p:spPr>
            <a:xfrm>
              <a:off x="5769000" y="1995480"/>
              <a:ext cx="758520" cy="89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"/>
          <p:cNvSpPr/>
          <p:nvPr/>
        </p:nvSpPr>
        <p:spPr>
          <a:xfrm>
            <a:off x="2113920" y="23457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84520" y="234576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2560" y="3122280"/>
            <a:ext cx="8898840" cy="1602000"/>
            <a:chOff x="52560" y="3122280"/>
            <a:chExt cx="8898840" cy="1602000"/>
          </a:xfrm>
        </p:grpSpPr>
        <p:sp>
          <p:nvSpPr>
            <p:cNvPr id="244" name=""/>
            <p:cNvSpPr/>
            <p:nvPr/>
          </p:nvSpPr>
          <p:spPr>
            <a:xfrm>
              <a:off x="7796880" y="3460320"/>
              <a:ext cx="1154520" cy="504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100%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560" y="3164400"/>
              <a:ext cx="1600920" cy="121968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(hybrids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2925720" y="3122280"/>
              <a:ext cx="3233880" cy="1602000"/>
              <a:chOff x="2925720" y="3122280"/>
              <a:chExt cx="3233880" cy="1602000"/>
            </a:xfrm>
          </p:grpSpPr>
          <p:sp>
            <p:nvSpPr>
              <p:cNvPr id="247" name=""/>
              <p:cNvSpPr/>
              <p:nvPr/>
            </p:nvSpPr>
            <p:spPr>
              <a:xfrm>
                <a:off x="3210840" y="3122280"/>
                <a:ext cx="266328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100%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5b03b3"/>
                    </a:solidFill>
                    <a:latin typeface="Arial"/>
                  </a:rPr>
                  <a:t>purple-flower peas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2925720" y="3809880"/>
                <a:ext cx="3233880" cy="914400"/>
                <a:chOff x="2925720" y="3809880"/>
                <a:chExt cx="3233880" cy="914400"/>
              </a:xfrm>
            </p:grpSpPr>
            <p:pic>
              <p:nvPicPr>
                <p:cNvPr id="249" name="" descr=""/>
                <p:cNvPicPr/>
                <p:nvPr/>
              </p:nvPicPr>
              <p:blipFill>
                <a:blip r:embed="rId7"/>
                <a:srcRect l="9000" t="66008" r="75379" b="7504"/>
                <a:stretch/>
              </p:blipFill>
              <p:spPr>
                <a:xfrm>
                  <a:off x="292572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8"/>
                <a:srcRect l="9000" t="66008" r="75379" b="7504"/>
                <a:stretch/>
              </p:blipFill>
              <p:spPr>
                <a:xfrm>
                  <a:off x="376380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9"/>
                <a:srcRect l="9000" t="66008" r="75379" b="7504"/>
                <a:stretch/>
              </p:blipFill>
              <p:spPr>
                <a:xfrm>
                  <a:off x="4602240" y="380988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10"/>
                <a:srcRect l="9000" t="66008" r="75379" b="7504"/>
                <a:stretch/>
              </p:blipFill>
              <p:spPr>
                <a:xfrm>
                  <a:off x="544032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53" name=""/>
          <p:cNvSpPr/>
          <p:nvPr/>
        </p:nvSpPr>
        <p:spPr>
          <a:xfrm>
            <a:off x="3039840" y="43650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1160" y="43650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22840" y="43650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64160" y="43650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421040" y="1483920"/>
            <a:ext cx="1639440" cy="4752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phenotyp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08160" y="2381040"/>
            <a:ext cx="1468800" cy="4752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genotyp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048920" y="4564080"/>
            <a:ext cx="1079640" cy="1079640"/>
          </a:xfrm>
          <a:custGeom>
            <a:avLst/>
            <a:gdLst>
              <a:gd name="textAreaLeft" fmla="*/ -360 w 1079640"/>
              <a:gd name="textAreaRight" fmla="*/ 1079640 w 1079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4734" y="9149"/>
                </a:moveTo>
                <a:arcTo wR="-6287" hR="-6287" stAng="-9886611" swAng="-17154416"/>
                <a:lnTo>
                  <a:pt x="10929" y="21599"/>
                </a:lnTo>
                <a:arcTo wR="10800" hR="10800" stAng="5358972" swAng="17154416"/>
                <a:lnTo>
                  <a:pt x="23826" y="14345"/>
                </a:lnTo>
                <a:lnTo>
                  <a:pt x="17742" y="17826"/>
                </a:lnTo>
                <a:lnTo>
                  <a:pt x="14261" y="11742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51840" y="493416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722600" y="3645000"/>
          <a:ext cx="2895480" cy="252720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unnett squar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026800" y="126828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  x   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181240" y="2696040"/>
            <a:ext cx="1889280" cy="889200"/>
            <a:chOff x="2181240" y="2696040"/>
            <a:chExt cx="1889280" cy="889200"/>
          </a:xfrm>
        </p:grpSpPr>
        <p:sp>
          <p:nvSpPr>
            <p:cNvPr id="265" name=""/>
            <p:cNvSpPr/>
            <p:nvPr/>
          </p:nvSpPr>
          <p:spPr>
            <a:xfrm>
              <a:off x="2257560" y="303444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38880" y="303444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81240" y="2696040"/>
              <a:ext cx="188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male / sperm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70320" y="4010040"/>
            <a:ext cx="802800" cy="1951560"/>
            <a:chOff x="670320" y="4010040"/>
            <a:chExt cx="802800" cy="1951560"/>
          </a:xfrm>
        </p:grpSpPr>
        <p:sp>
          <p:nvSpPr>
            <p:cNvPr id="269" name=""/>
            <p:cNvSpPr/>
            <p:nvPr/>
          </p:nvSpPr>
          <p:spPr>
            <a:xfrm>
              <a:off x="1037880" y="410148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38240" y="525708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-90720" y="4771080"/>
              <a:ext cx="1951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female / egg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335200" y="2765520"/>
            <a:ext cx="1422720" cy="914400"/>
            <a:chOff x="5335200" y="2765520"/>
            <a:chExt cx="1422720" cy="91440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6039000" y="2765520"/>
              <a:ext cx="7189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335200" y="2823480"/>
              <a:ext cx="68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8001000" y="2757600"/>
            <a:ext cx="920520" cy="2438280"/>
            <a:chOff x="8001000" y="2757600"/>
            <a:chExt cx="920520" cy="2438280"/>
          </a:xfrm>
        </p:grpSpPr>
        <p:sp>
          <p:nvSpPr>
            <p:cNvPr id="276" name=""/>
            <p:cNvSpPr/>
            <p:nvPr/>
          </p:nvSpPr>
          <p:spPr>
            <a:xfrm>
              <a:off x="8077680" y="359496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44bc"/>
                  </a:solidFill>
                  <a:latin typeface="Arial"/>
                </a:rPr>
                <a:t>75%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001000" y="2757600"/>
              <a:ext cx="0" cy="24382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8001000" y="5272200"/>
            <a:ext cx="920520" cy="761760"/>
            <a:chOff x="8001000" y="5272200"/>
            <a:chExt cx="920520" cy="761760"/>
          </a:xfrm>
        </p:grpSpPr>
        <p:sp>
          <p:nvSpPr>
            <p:cNvPr id="279" name=""/>
            <p:cNvSpPr/>
            <p:nvPr/>
          </p:nvSpPr>
          <p:spPr>
            <a:xfrm>
              <a:off x="8077680" y="534744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001000" y="527220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8152560" y="6189840"/>
            <a:ext cx="71172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3:1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018200" y="2757600"/>
            <a:ext cx="920520" cy="761760"/>
            <a:chOff x="7018200" y="2757600"/>
            <a:chExt cx="920520" cy="761760"/>
          </a:xfrm>
        </p:grpSpPr>
        <p:sp>
          <p:nvSpPr>
            <p:cNvPr id="283" name=""/>
            <p:cNvSpPr/>
            <p:nvPr/>
          </p:nvSpPr>
          <p:spPr>
            <a:xfrm>
              <a:off x="7094880" y="290952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44bc"/>
                  </a:solidFill>
                  <a:latin typeface="Arial"/>
                </a:rPr>
                <a:t>25%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18200" y="2757600"/>
              <a:ext cx="0" cy="76176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010280" y="3595680"/>
            <a:ext cx="920520" cy="1600200"/>
            <a:chOff x="7010280" y="3595680"/>
            <a:chExt cx="920520" cy="1600200"/>
          </a:xfrm>
        </p:grpSpPr>
        <p:sp>
          <p:nvSpPr>
            <p:cNvPr id="286" name=""/>
            <p:cNvSpPr/>
            <p:nvPr/>
          </p:nvSpPr>
          <p:spPr>
            <a:xfrm>
              <a:off x="7010280" y="3595680"/>
              <a:ext cx="0" cy="1600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86960" y="405252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44bc"/>
                  </a:solidFill>
                  <a:latin typeface="Arial"/>
                </a:rPr>
                <a:t>50%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7010280" y="5272200"/>
            <a:ext cx="920520" cy="761760"/>
            <a:chOff x="7010280" y="5272200"/>
            <a:chExt cx="920520" cy="761760"/>
          </a:xfrm>
        </p:grpSpPr>
        <p:sp>
          <p:nvSpPr>
            <p:cNvPr id="289" name=""/>
            <p:cNvSpPr/>
            <p:nvPr/>
          </p:nvSpPr>
          <p:spPr>
            <a:xfrm>
              <a:off x="7086960" y="534744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10280" y="527220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890040" y="6189840"/>
            <a:ext cx="100584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:2:1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54520" y="211572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genotyp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05160" y="211572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rcRect l="9000" t="66008" r="75379" b="7504"/>
          <a:stretch/>
        </p:blipFill>
        <p:spPr>
          <a:xfrm>
            <a:off x="1751040" y="370188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rcRect l="78757" t="66008" r="4500" b="7504"/>
          <a:stretch/>
        </p:blipFill>
        <p:spPr>
          <a:xfrm>
            <a:off x="3187800" y="4900680"/>
            <a:ext cx="758880" cy="8935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rcRect l="9000" t="66008" r="75379" b="7504"/>
          <a:stretch/>
        </p:blipFill>
        <p:spPr>
          <a:xfrm>
            <a:off x="3187800" y="370188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rcRect l="9000" t="66008" r="75379" b="7504"/>
          <a:stretch/>
        </p:blipFill>
        <p:spPr>
          <a:xfrm>
            <a:off x="1751040" y="4900680"/>
            <a:ext cx="719280" cy="9144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248920" y="40935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5960" y="40935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49280" y="528408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5600" y="528408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6"/>
          <a:srcRect l="9000" t="66008" r="75379" b="7504"/>
          <a:stretch/>
        </p:blipFill>
        <p:spPr>
          <a:xfrm>
            <a:off x="2013120" y="1709640"/>
            <a:ext cx="718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5355720" y="5398920"/>
            <a:ext cx="1402200" cy="893880"/>
            <a:chOff x="5355720" y="5398920"/>
            <a:chExt cx="1402200" cy="893880"/>
          </a:xfrm>
        </p:grpSpPr>
        <p:sp>
          <p:nvSpPr>
            <p:cNvPr id="304" name=""/>
            <p:cNvSpPr/>
            <p:nvPr/>
          </p:nvSpPr>
          <p:spPr>
            <a:xfrm>
              <a:off x="5355720" y="5417280"/>
              <a:ext cx="646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7"/>
            <a:srcRect l="78757" t="66008" r="4500" b="7504"/>
            <a:stretch/>
          </p:blipFill>
          <p:spPr>
            <a:xfrm>
              <a:off x="5999040" y="5398920"/>
              <a:ext cx="758880" cy="89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6" name="" descr=""/>
          <p:cNvPicPr/>
          <p:nvPr/>
        </p:nvPicPr>
        <p:blipFill>
          <a:blip r:embed="rId8"/>
          <a:srcRect l="9000" t="66008" r="75379" b="7504"/>
          <a:stretch/>
        </p:blipFill>
        <p:spPr>
          <a:xfrm>
            <a:off x="3338640" y="1709640"/>
            <a:ext cx="718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5344920" y="4487760"/>
            <a:ext cx="1413000" cy="914400"/>
            <a:chOff x="5344920" y="4487760"/>
            <a:chExt cx="1413000" cy="914400"/>
          </a:xfrm>
        </p:grpSpPr>
        <p:sp>
          <p:nvSpPr>
            <p:cNvPr id="308" name=""/>
            <p:cNvSpPr/>
            <p:nvPr/>
          </p:nvSpPr>
          <p:spPr>
            <a:xfrm>
              <a:off x="5344920" y="4500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9"/>
            <a:srcRect l="9000" t="66008" r="75379" b="7504"/>
            <a:stretch/>
          </p:blipFill>
          <p:spPr>
            <a:xfrm>
              <a:off x="6039000" y="4487760"/>
              <a:ext cx="71892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0" name=""/>
          <p:cNvGrpSpPr/>
          <p:nvPr/>
        </p:nvGrpSpPr>
        <p:grpSpPr>
          <a:xfrm>
            <a:off x="5344920" y="3622680"/>
            <a:ext cx="1413000" cy="914400"/>
            <a:chOff x="5344920" y="3622680"/>
            <a:chExt cx="1413000" cy="914400"/>
          </a:xfrm>
        </p:grpSpPr>
        <p:sp>
          <p:nvSpPr>
            <p:cNvPr id="311" name=""/>
            <p:cNvSpPr/>
            <p:nvPr/>
          </p:nvSpPr>
          <p:spPr>
            <a:xfrm>
              <a:off x="5344920" y="36615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12" name="" descr=""/>
            <p:cNvPicPr/>
            <p:nvPr/>
          </p:nvPicPr>
          <p:blipFill>
            <a:blip r:embed="rId10"/>
            <a:srcRect l="9000" t="66008" r="75379" b="7504"/>
            <a:stretch/>
          </p:blipFill>
          <p:spPr>
            <a:xfrm>
              <a:off x="6039000" y="3622680"/>
              <a:ext cx="71892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"/>
          <p:cNvSpPr/>
          <p:nvPr/>
        </p:nvSpPr>
        <p:spPr>
          <a:xfrm>
            <a:off x="147600" y="1413720"/>
            <a:ext cx="1502280" cy="111924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ne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hybrid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1"/>
          <a:stretch/>
        </p:blipFill>
        <p:spPr>
          <a:xfrm>
            <a:off x="7869240" y="31104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919760" y="388800"/>
            <a:ext cx="2674800" cy="1355760"/>
          </a:xfrm>
          <a:prstGeom prst="wedgeEllipseCallout">
            <a:avLst>
              <a:gd name="adj1" fmla="val 72078"/>
              <a:gd name="adj2" fmla="val -3126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aaaah,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henotype &amp; genotyp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can have different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ratios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otyp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omozygou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i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sam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lleles = </a:t>
            </a: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eterozygou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i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differen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lleles = </a:t>
            </a: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932200" y="2644920"/>
            <a:ext cx="4761000" cy="41018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382760" y="3042360"/>
            <a:ext cx="1562400" cy="60804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omozygous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ominan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82760" y="5785560"/>
            <a:ext cx="1562400" cy="60804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omozygous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cessiv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rcRect l="9000" t="66008" r="75379" b="7504"/>
          <a:stretch/>
        </p:blipFill>
        <p:spPr>
          <a:xfrm>
            <a:off x="4965840" y="290844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rcRect l="9000" t="66008" r="75379" b="7504"/>
          <a:stretch/>
        </p:blipFill>
        <p:spPr>
          <a:xfrm>
            <a:off x="4965840" y="382104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rcRect l="9000" t="66008" r="75379" b="7504"/>
          <a:stretch/>
        </p:blipFill>
        <p:spPr>
          <a:xfrm>
            <a:off x="4965840" y="470232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rcRect l="78757" t="66008" r="4500" b="7504"/>
          <a:stretch/>
        </p:blipFill>
        <p:spPr>
          <a:xfrm>
            <a:off x="4965840" y="5581800"/>
            <a:ext cx="758520" cy="8935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321920" y="4536720"/>
            <a:ext cx="1607760" cy="3042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eterozygou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066680" y="2583000"/>
            <a:ext cx="7467840" cy="204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enotype vs. genotyp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organisms can have the same phenotype but have different genotyp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481040" y="2685960"/>
            <a:ext cx="6859080" cy="914400"/>
            <a:chOff x="1481040" y="2685960"/>
            <a:chExt cx="6859080" cy="914400"/>
          </a:xfrm>
        </p:grpSpPr>
        <p:sp>
          <p:nvSpPr>
            <p:cNvPr id="330" name=""/>
            <p:cNvSpPr/>
            <p:nvPr/>
          </p:nvSpPr>
          <p:spPr>
            <a:xfrm>
              <a:off x="4824720" y="2913480"/>
              <a:ext cx="35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44bc"/>
                  </a:solidFill>
                  <a:latin typeface="Arial"/>
                </a:rPr>
                <a:t>homozygous dominant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1481040" y="2685960"/>
              <a:ext cx="3194280" cy="914400"/>
              <a:chOff x="1481040" y="2685960"/>
              <a:chExt cx="3194280" cy="914400"/>
            </a:xfrm>
          </p:grpSpPr>
          <p:sp>
            <p:nvSpPr>
              <p:cNvPr id="332" name=""/>
              <p:cNvSpPr/>
              <p:nvPr/>
            </p:nvSpPr>
            <p:spPr>
              <a:xfrm>
                <a:off x="3985560" y="2867760"/>
                <a:ext cx="689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P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341440" y="2867760"/>
                <a:ext cx="1344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8044bc"/>
                    </a:solidFill>
                    <a:latin typeface="Arial"/>
                  </a:rPr>
                  <a:t>purple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pic>
            <p:nvPicPr>
              <p:cNvPr id="334" name="" descr=""/>
              <p:cNvPicPr/>
              <p:nvPr/>
            </p:nvPicPr>
            <p:blipFill>
              <a:blip r:embed="rId1"/>
              <a:srcRect l="9000" t="66008" r="75379" b="7504"/>
              <a:stretch/>
            </p:blipFill>
            <p:spPr>
              <a:xfrm>
                <a:off x="1481040" y="2685960"/>
                <a:ext cx="71928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35" name=""/>
          <p:cNvGrpSpPr/>
          <p:nvPr/>
        </p:nvGrpSpPr>
        <p:grpSpPr>
          <a:xfrm>
            <a:off x="1481040" y="3670200"/>
            <a:ext cx="5504760" cy="914400"/>
            <a:chOff x="1481040" y="3670200"/>
            <a:chExt cx="5504760" cy="914400"/>
          </a:xfrm>
        </p:grpSpPr>
        <p:sp>
          <p:nvSpPr>
            <p:cNvPr id="336" name=""/>
            <p:cNvSpPr/>
            <p:nvPr/>
          </p:nvSpPr>
          <p:spPr>
            <a:xfrm>
              <a:off x="3985920" y="3852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25440" y="389772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44bc"/>
                  </a:solidFill>
                  <a:latin typeface="Arial"/>
                </a:rPr>
                <a:t>heterozygou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49360" y="3852000"/>
              <a:ext cx="1344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8044bc"/>
                  </a:solidFill>
                  <a:latin typeface="Arial"/>
                </a:rPr>
                <a:t>purple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2"/>
            <a:srcRect l="9000" t="66008" r="75379" b="7504"/>
            <a:stretch/>
          </p:blipFill>
          <p:spPr>
            <a:xfrm>
              <a:off x="1481040" y="3670200"/>
              <a:ext cx="719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"/>
          <p:cNvGrpSpPr/>
          <p:nvPr/>
        </p:nvGrpSpPr>
        <p:grpSpPr>
          <a:xfrm>
            <a:off x="1230480" y="5170320"/>
            <a:ext cx="6343560" cy="1157400"/>
            <a:chOff x="1230480" y="5170320"/>
            <a:chExt cx="6343560" cy="1157400"/>
          </a:xfrm>
        </p:grpSpPr>
        <p:sp>
          <p:nvSpPr>
            <p:cNvPr id="341" name=""/>
            <p:cNvSpPr/>
            <p:nvPr/>
          </p:nvSpPr>
          <p:spPr>
            <a:xfrm>
              <a:off x="1230480" y="5170320"/>
              <a:ext cx="5410080" cy="1143000"/>
            </a:xfrm>
            <a:custGeom>
              <a:avLst/>
              <a:gdLst>
                <a:gd name="textAreaLeft" fmla="*/ 0 w 5410080"/>
                <a:gd name="textAreaRight" fmla="*/ 5410440 w 54100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How do you determine the </a:t>
              </a:r>
              <a:br>
                <a:rPr sz="2200"/>
              </a:b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genotype of an individual with</a:t>
              </a:r>
              <a:br>
                <a:rPr sz="2200"/>
              </a:b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with a dominant phenotype? 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3"/>
            <a:srcRect l="9000" t="66008" r="75379" b="7504"/>
            <a:stretch/>
          </p:blipFill>
          <p:spPr>
            <a:xfrm>
              <a:off x="6727680" y="5251320"/>
              <a:ext cx="846360" cy="10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7869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7108920" y="4100400"/>
            <a:ext cx="1766880" cy="1041480"/>
          </a:xfrm>
          <a:prstGeom prst="wedgeEllipseCallout">
            <a:avLst>
              <a:gd name="adj1" fmla="val 8222"/>
              <a:gd name="adj2" fmla="val 1071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Can’t tell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by lookin’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t y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est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reed the dominant phenotype —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unknown genotype — with a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omozygous recessiv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(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p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) to determine the identity of the unknown alle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30640" y="5180760"/>
            <a:ext cx="708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Arial"/>
              </a:rPr>
              <a:t>pp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63760" y="5104800"/>
            <a:ext cx="2001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s it</a:t>
            </a:r>
            <a:br>
              <a:rPr sz="3000"/>
            </a:b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P or P</a:t>
            </a:r>
            <a:r>
              <a:rPr b="1" i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044880" y="4075200"/>
            <a:ext cx="2728800" cy="914400"/>
            <a:chOff x="3044880" y="4075200"/>
            <a:chExt cx="2728800" cy="914400"/>
          </a:xfrm>
        </p:grpSpPr>
        <p:sp>
          <p:nvSpPr>
            <p:cNvPr id="350" name=""/>
            <p:cNvSpPr/>
            <p:nvPr/>
          </p:nvSpPr>
          <p:spPr>
            <a:xfrm>
              <a:off x="4192560" y="425700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51" name="" descr="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3044880" y="4075200"/>
              <a:ext cx="7189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2"/>
            <a:srcRect l="78757" t="66008" r="4500" b="7504"/>
            <a:stretch/>
          </p:blipFill>
          <p:spPr>
            <a:xfrm>
              <a:off x="5014800" y="4084560"/>
              <a:ext cx="758880" cy="89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7869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7115040" y="4100400"/>
            <a:ext cx="1766880" cy="1041480"/>
          </a:xfrm>
          <a:prstGeom prst="wedgeEllipseCallout">
            <a:avLst>
              <a:gd name="adj1" fmla="val 9569"/>
              <a:gd name="adj2" fmla="val 11082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How doe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at work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449000" y="22089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69720" y="220896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does a Test cross work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100160" y="3554280"/>
          <a:ext cx="2895480" cy="252756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164484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1644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3760" y="401076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1560" y="516672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5519880" y="3554280"/>
          <a:ext cx="2895480" cy="252756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"/>
          <p:cNvSpPr/>
          <p:nvPr/>
        </p:nvSpPr>
        <p:spPr>
          <a:xfrm>
            <a:off x="606420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43580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073480" y="401076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31000" y="524592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857560" y="22089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44880" y="220896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rcRect l="9000" t="66008" r="75379" b="7504"/>
          <a:stretch/>
        </p:blipFill>
        <p:spPr>
          <a:xfrm>
            <a:off x="1179360" y="3687840"/>
            <a:ext cx="719280" cy="914400"/>
          </a:xfrm>
          <a:prstGeom prst="rect">
            <a:avLst/>
          </a:prstGeom>
          <a:ln w="0">
            <a:noFill/>
          </a:ln>
        </p:spPr>
      </p:pic>
      <p:grpSp>
        <p:nvGrpSpPr>
          <p:cNvPr id="371" name=""/>
          <p:cNvGrpSpPr/>
          <p:nvPr/>
        </p:nvGrpSpPr>
        <p:grpSpPr>
          <a:xfrm>
            <a:off x="1473120" y="1352520"/>
            <a:ext cx="2403720" cy="914400"/>
            <a:chOff x="1473120" y="1352520"/>
            <a:chExt cx="2403720" cy="914400"/>
          </a:xfrm>
        </p:grpSpPr>
        <p:sp>
          <p:nvSpPr>
            <p:cNvPr id="372" name=""/>
            <p:cNvSpPr/>
            <p:nvPr/>
          </p:nvSpPr>
          <p:spPr>
            <a:xfrm>
              <a:off x="2412720" y="153432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2"/>
            <a:srcRect l="9000" t="66008" r="75379" b="7504"/>
            <a:stretch/>
          </p:blipFill>
          <p:spPr>
            <a:xfrm>
              <a:off x="1473120" y="1352520"/>
              <a:ext cx="7192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3"/>
            <a:srcRect l="78757" t="66008" r="4500" b="7504"/>
            <a:stretch/>
          </p:blipFill>
          <p:spPr>
            <a:xfrm>
              <a:off x="3117960" y="1362240"/>
              <a:ext cx="75888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" name=""/>
          <p:cNvGrpSpPr/>
          <p:nvPr/>
        </p:nvGrpSpPr>
        <p:grpSpPr>
          <a:xfrm>
            <a:off x="5886360" y="1352520"/>
            <a:ext cx="2403720" cy="914400"/>
            <a:chOff x="5886360" y="1352520"/>
            <a:chExt cx="2403720" cy="914400"/>
          </a:xfrm>
        </p:grpSpPr>
        <p:sp>
          <p:nvSpPr>
            <p:cNvPr id="376" name=""/>
            <p:cNvSpPr/>
            <p:nvPr/>
          </p:nvSpPr>
          <p:spPr>
            <a:xfrm>
              <a:off x="6825960" y="153432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77" name="" descr=""/>
            <p:cNvPicPr/>
            <p:nvPr/>
          </p:nvPicPr>
          <p:blipFill>
            <a:blip r:embed="rId4"/>
            <a:srcRect l="9000" t="66008" r="75379" b="7504"/>
            <a:stretch/>
          </p:blipFill>
          <p:spPr>
            <a:xfrm>
              <a:off x="5886360" y="1352520"/>
              <a:ext cx="7192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5"/>
            <a:srcRect l="78757" t="66008" r="4500" b="7504"/>
            <a:stretch/>
          </p:blipFill>
          <p:spPr>
            <a:xfrm>
              <a:off x="7531200" y="1362240"/>
              <a:ext cx="758880" cy="89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9" name="" descr=""/>
          <p:cNvPicPr/>
          <p:nvPr/>
        </p:nvPicPr>
        <p:blipFill>
          <a:blip r:embed="rId6"/>
          <a:srcRect l="9000" t="66008" r="75379" b="7504"/>
          <a:stretch/>
        </p:blipFill>
        <p:spPr>
          <a:xfrm>
            <a:off x="2600280" y="368784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7"/>
          <a:srcRect l="9000" t="66008" r="75379" b="7504"/>
          <a:stretch/>
        </p:blipFill>
        <p:spPr>
          <a:xfrm>
            <a:off x="1179360" y="489420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8"/>
          <a:srcRect l="9000" t="66008" r="75379" b="7504"/>
          <a:stretch/>
        </p:blipFill>
        <p:spPr>
          <a:xfrm>
            <a:off x="2600280" y="4894200"/>
            <a:ext cx="719280" cy="914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68084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80840" y="53334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28760" y="53334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876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72760" y="6209280"/>
            <a:ext cx="218412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00% </a:t>
            </a:r>
            <a:r>
              <a:rPr b="1" lang="en-US" sz="2600" spc="-1" strike="noStrike">
                <a:solidFill>
                  <a:srgbClr val="5b03b3"/>
                </a:solidFill>
                <a:latin typeface="Arial"/>
              </a:rPr>
              <a:t>purpl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9"/>
          <a:srcRect l="9000" t="66008" r="75379" b="7504"/>
          <a:stretch/>
        </p:blipFill>
        <p:spPr>
          <a:xfrm>
            <a:off x="5553000" y="368784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10"/>
          <a:srcRect l="9000" t="66008" r="75379" b="7504"/>
          <a:stretch/>
        </p:blipFill>
        <p:spPr>
          <a:xfrm>
            <a:off x="6981840" y="368784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1"/>
          <a:srcRect l="78757" t="66008" r="4500" b="7504"/>
          <a:stretch/>
        </p:blipFill>
        <p:spPr>
          <a:xfrm>
            <a:off x="6981840" y="4886280"/>
            <a:ext cx="758880" cy="8938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14016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98880" y="533340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8808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25600" y="6273360"/>
            <a:ext cx="3948840" cy="4752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50% </a:t>
            </a:r>
            <a:r>
              <a:rPr b="1" lang="en-US" sz="2200" spc="-1" strike="noStrike">
                <a:solidFill>
                  <a:srgbClr val="5b03b3"/>
                </a:solidFill>
                <a:latin typeface="Arial"/>
              </a:rPr>
              <a:t>purple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50%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or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1:1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2"/>
          <a:srcRect l="78757" t="66008" r="4500" b="7504"/>
          <a:stretch/>
        </p:blipFill>
        <p:spPr>
          <a:xfrm>
            <a:off x="5553000" y="4886280"/>
            <a:ext cx="758880" cy="8938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6150960" y="533340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35000" y="1468440"/>
            <a:ext cx="1227240" cy="797040"/>
          </a:xfrm>
          <a:prstGeom prst="wedgeEllipseCallout">
            <a:avLst>
              <a:gd name="adj1" fmla="val 57245"/>
              <a:gd name="adj2" fmla="val 6752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m I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is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21240" y="1468440"/>
            <a:ext cx="1227240" cy="797040"/>
          </a:xfrm>
          <a:prstGeom prst="wedgeEllipseCallout">
            <a:avLst>
              <a:gd name="adj1" fmla="val 59703"/>
              <a:gd name="adj2" fmla="val 6832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Or am I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is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’s 1</a:t>
            </a:r>
            <a:r>
              <a:rPr b="1" lang="en-US" sz="3600" spc="-1" strike="noStrike" baseline="30000">
                <a:solidFill>
                  <a:srgbClr val="660066"/>
                </a:solidFill>
                <a:latin typeface="Arial"/>
              </a:rPr>
              <a:t>st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w of hered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49952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aw of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segregatio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uring meiosis,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lleles segrega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omologous chromosomes separat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ch allele for a trait is packaged into a separate game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781680" y="623880"/>
            <a:ext cx="2049480" cy="1752480"/>
            <a:chOff x="6781680" y="623880"/>
            <a:chExt cx="2049480" cy="1752480"/>
          </a:xfrm>
        </p:grpSpPr>
        <p:grpSp>
          <p:nvGrpSpPr>
            <p:cNvPr id="401" name=""/>
            <p:cNvGrpSpPr/>
            <p:nvPr/>
          </p:nvGrpSpPr>
          <p:grpSpPr>
            <a:xfrm>
              <a:off x="6781680" y="1120680"/>
              <a:ext cx="838080" cy="838080"/>
              <a:chOff x="6781680" y="1120680"/>
              <a:chExt cx="838080" cy="838080"/>
            </a:xfrm>
          </p:grpSpPr>
          <p:sp>
            <p:nvSpPr>
              <p:cNvPr id="402" name=""/>
              <p:cNvSpPr/>
              <p:nvPr/>
            </p:nvSpPr>
            <p:spPr>
              <a:xfrm>
                <a:off x="6781680" y="112068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859080" y="1272240"/>
                <a:ext cx="689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8221680" y="623880"/>
              <a:ext cx="609480" cy="609480"/>
              <a:chOff x="8221680" y="623880"/>
              <a:chExt cx="609480" cy="609480"/>
            </a:xfrm>
          </p:grpSpPr>
          <p:sp>
            <p:nvSpPr>
              <p:cNvPr id="405" name=""/>
              <p:cNvSpPr/>
              <p:nvPr/>
            </p:nvSpPr>
            <p:spPr>
              <a:xfrm>
                <a:off x="8221680" y="6238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308800" y="6530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221680" y="1766880"/>
              <a:ext cx="609480" cy="609480"/>
              <a:chOff x="8221680" y="1766880"/>
              <a:chExt cx="609480" cy="609480"/>
            </a:xfrm>
          </p:grpSpPr>
          <p:sp>
            <p:nvSpPr>
              <p:cNvPr id="408" name=""/>
              <p:cNvSpPr/>
              <p:nvPr/>
            </p:nvSpPr>
            <p:spPr>
              <a:xfrm>
                <a:off x="8221680" y="17668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308800" y="17960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 rot="1800000">
              <a:off x="7611480" y="16905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 rot="19800000">
              <a:off x="7611480" y="115704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781680" y="2816280"/>
            <a:ext cx="2049480" cy="1752480"/>
            <a:chOff x="6781680" y="2816280"/>
            <a:chExt cx="2049480" cy="1752480"/>
          </a:xfrm>
        </p:grpSpPr>
        <p:grpSp>
          <p:nvGrpSpPr>
            <p:cNvPr id="413" name=""/>
            <p:cNvGrpSpPr/>
            <p:nvPr/>
          </p:nvGrpSpPr>
          <p:grpSpPr>
            <a:xfrm>
              <a:off x="6781680" y="3313080"/>
              <a:ext cx="838080" cy="838080"/>
              <a:chOff x="6781680" y="3313080"/>
              <a:chExt cx="838080" cy="838080"/>
            </a:xfrm>
          </p:grpSpPr>
          <p:sp>
            <p:nvSpPr>
              <p:cNvPr id="414" name=""/>
              <p:cNvSpPr/>
              <p:nvPr/>
            </p:nvSpPr>
            <p:spPr>
              <a:xfrm>
                <a:off x="6781680" y="3313080"/>
                <a:ext cx="838080" cy="8380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878160" y="3456720"/>
                <a:ext cx="646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8221680" y="2816280"/>
              <a:ext cx="609480" cy="609480"/>
              <a:chOff x="8221680" y="2816280"/>
              <a:chExt cx="609480" cy="609480"/>
            </a:xfrm>
          </p:grpSpPr>
          <p:sp>
            <p:nvSpPr>
              <p:cNvPr id="417" name=""/>
              <p:cNvSpPr/>
              <p:nvPr/>
            </p:nvSpPr>
            <p:spPr>
              <a:xfrm>
                <a:off x="8221680" y="281628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318520" y="284544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8221680" y="3959280"/>
              <a:ext cx="609480" cy="609480"/>
              <a:chOff x="8221680" y="3959280"/>
              <a:chExt cx="609480" cy="609480"/>
            </a:xfrm>
          </p:grpSpPr>
          <p:sp>
            <p:nvSpPr>
              <p:cNvPr id="420" name=""/>
              <p:cNvSpPr/>
              <p:nvPr/>
            </p:nvSpPr>
            <p:spPr>
              <a:xfrm>
                <a:off x="8221680" y="395928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318520" y="398844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 rot="1800000">
              <a:off x="7611480" y="38829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 rot="19800000">
              <a:off x="7611480" y="334944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781680" y="5010120"/>
            <a:ext cx="2049480" cy="1752480"/>
            <a:chOff x="6781680" y="5010120"/>
            <a:chExt cx="2049480" cy="1752480"/>
          </a:xfrm>
        </p:grpSpPr>
        <p:grpSp>
          <p:nvGrpSpPr>
            <p:cNvPr id="425" name=""/>
            <p:cNvGrpSpPr/>
            <p:nvPr/>
          </p:nvGrpSpPr>
          <p:grpSpPr>
            <a:xfrm>
              <a:off x="6781680" y="5506920"/>
              <a:ext cx="838080" cy="838080"/>
              <a:chOff x="6781680" y="5506920"/>
              <a:chExt cx="838080" cy="838080"/>
            </a:xfrm>
          </p:grpSpPr>
          <p:sp>
            <p:nvSpPr>
              <p:cNvPr id="426" name=""/>
              <p:cNvSpPr/>
              <p:nvPr/>
            </p:nvSpPr>
            <p:spPr>
              <a:xfrm>
                <a:off x="6781680" y="5506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868800" y="565848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8221680" y="5010120"/>
              <a:ext cx="609480" cy="609480"/>
              <a:chOff x="8221680" y="5010120"/>
              <a:chExt cx="609480" cy="609480"/>
            </a:xfrm>
          </p:grpSpPr>
          <p:sp>
            <p:nvSpPr>
              <p:cNvPr id="429" name=""/>
              <p:cNvSpPr/>
              <p:nvPr/>
            </p:nvSpPr>
            <p:spPr>
              <a:xfrm>
                <a:off x="8221680" y="501012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308800" y="503928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8221680" y="6153120"/>
              <a:ext cx="609480" cy="609480"/>
              <a:chOff x="8221680" y="6153120"/>
              <a:chExt cx="609480" cy="609480"/>
            </a:xfrm>
          </p:grpSpPr>
          <p:sp>
            <p:nvSpPr>
              <p:cNvPr id="432" name=""/>
              <p:cNvSpPr/>
              <p:nvPr/>
            </p:nvSpPr>
            <p:spPr>
              <a:xfrm>
                <a:off x="8221680" y="615312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318520" y="618264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 rot="1800000">
              <a:off x="7611840" y="607644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 rot="19800000">
              <a:off x="7611840" y="554364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440" y="4317840"/>
            <a:ext cx="2590920" cy="1828800"/>
            <a:chOff x="55440" y="4317840"/>
            <a:chExt cx="2590920" cy="1828800"/>
          </a:xfrm>
        </p:grpSpPr>
        <p:sp>
          <p:nvSpPr>
            <p:cNvPr id="437" name=""/>
            <p:cNvSpPr/>
            <p:nvPr/>
          </p:nvSpPr>
          <p:spPr>
            <a:xfrm>
              <a:off x="55440" y="4317840"/>
              <a:ext cx="2590920" cy="18288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579600" y="4622400"/>
              <a:ext cx="677520" cy="1295640"/>
              <a:chOff x="579600" y="4622400"/>
              <a:chExt cx="677520" cy="129564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969840" y="4622400"/>
                <a:ext cx="287280" cy="1295640"/>
                <a:chOff x="969840" y="4622400"/>
                <a:chExt cx="287280" cy="1295640"/>
              </a:xfrm>
            </p:grpSpPr>
            <p:sp>
              <p:nvSpPr>
                <p:cNvPr id="440" name=""/>
                <p:cNvSpPr/>
                <p:nvPr/>
              </p:nvSpPr>
              <p:spPr>
                <a:xfrm flipH="1">
                  <a:off x="969840" y="4622400"/>
                  <a:ext cx="277920" cy="129564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084320" y="4714560"/>
                  <a:ext cx="83880" cy="9360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flipV="1">
                  <a:off x="1146240" y="574524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579600" y="4622400"/>
                <a:ext cx="286920" cy="1295640"/>
                <a:chOff x="579600" y="4622400"/>
                <a:chExt cx="286920" cy="129564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588960" y="4622400"/>
                  <a:ext cx="277560" cy="129564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668520" y="4714560"/>
                  <a:ext cx="83520" cy="9360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H="1" flipV="1">
                  <a:off x="579600" y="5745240"/>
                  <a:ext cx="110520" cy="5724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7" name=""/>
            <p:cNvGrpSpPr/>
            <p:nvPr/>
          </p:nvGrpSpPr>
          <p:grpSpPr>
            <a:xfrm>
              <a:off x="1417680" y="4622400"/>
              <a:ext cx="677520" cy="1295640"/>
              <a:chOff x="1417680" y="4622400"/>
              <a:chExt cx="677520" cy="129564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1807920" y="4622400"/>
                <a:ext cx="287280" cy="1295640"/>
                <a:chOff x="1807920" y="4622400"/>
                <a:chExt cx="287280" cy="1295640"/>
              </a:xfrm>
            </p:grpSpPr>
            <p:sp>
              <p:nvSpPr>
                <p:cNvPr id="449" name=""/>
                <p:cNvSpPr/>
                <p:nvPr/>
              </p:nvSpPr>
              <p:spPr>
                <a:xfrm flipH="1">
                  <a:off x="1807920" y="4622400"/>
                  <a:ext cx="277920" cy="129564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922400" y="4714560"/>
                  <a:ext cx="84240" cy="9360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V="1">
                  <a:off x="1984320" y="574524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1417680" y="4622400"/>
                <a:ext cx="287280" cy="1295640"/>
                <a:chOff x="1417680" y="4622400"/>
                <a:chExt cx="287280" cy="12956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1427040" y="4622400"/>
                  <a:ext cx="277920" cy="129564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1506240" y="4714560"/>
                  <a:ext cx="84240" cy="9360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 flipV="1">
                  <a:off x="1417680" y="574524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56" name=""/>
          <p:cNvGrpSpPr/>
          <p:nvPr/>
        </p:nvGrpSpPr>
        <p:grpSpPr>
          <a:xfrm>
            <a:off x="2648880" y="4709160"/>
            <a:ext cx="604080" cy="970200"/>
            <a:chOff x="2648880" y="4709160"/>
            <a:chExt cx="604080" cy="970200"/>
          </a:xfrm>
        </p:grpSpPr>
        <p:sp>
          <p:nvSpPr>
            <p:cNvPr id="457" name=""/>
            <p:cNvSpPr/>
            <p:nvPr/>
          </p:nvSpPr>
          <p:spPr>
            <a:xfrm rot="1800000">
              <a:off x="2646000" y="538452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 rot="19800000">
              <a:off x="2646000" y="485136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3255840" y="4317840"/>
            <a:ext cx="1371600" cy="1752480"/>
            <a:chOff x="3255840" y="4317840"/>
            <a:chExt cx="1371600" cy="1752480"/>
          </a:xfrm>
        </p:grpSpPr>
        <p:sp>
          <p:nvSpPr>
            <p:cNvPr id="460" name=""/>
            <p:cNvSpPr/>
            <p:nvPr/>
          </p:nvSpPr>
          <p:spPr>
            <a:xfrm rot="16200000">
              <a:off x="3065400" y="4508280"/>
              <a:ext cx="1752480" cy="13716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3578400" y="4546440"/>
              <a:ext cx="677520" cy="1295280"/>
              <a:chOff x="3578400" y="4546440"/>
              <a:chExt cx="677520" cy="129528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3968640" y="4546440"/>
                <a:ext cx="287280" cy="1295280"/>
                <a:chOff x="3968640" y="4546440"/>
                <a:chExt cx="287280" cy="1295280"/>
              </a:xfrm>
            </p:grpSpPr>
            <p:sp>
              <p:nvSpPr>
                <p:cNvPr id="463" name=""/>
                <p:cNvSpPr/>
                <p:nvPr/>
              </p:nvSpPr>
              <p:spPr>
                <a:xfrm flipH="1">
                  <a:off x="3968640" y="4546440"/>
                  <a:ext cx="27792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083120" y="4638240"/>
                  <a:ext cx="83880" cy="9324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V="1">
                  <a:off x="4145040" y="566928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3578400" y="4546440"/>
                <a:ext cx="286920" cy="1295280"/>
                <a:chOff x="3578400" y="4546440"/>
                <a:chExt cx="286920" cy="12952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587760" y="4546440"/>
                  <a:ext cx="27756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3667320" y="4638240"/>
                  <a:ext cx="83520" cy="9324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 flipV="1">
                  <a:off x="3578400" y="5669280"/>
                  <a:ext cx="110520" cy="5688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0" name=""/>
          <p:cNvGrpSpPr/>
          <p:nvPr/>
        </p:nvGrpSpPr>
        <p:grpSpPr>
          <a:xfrm>
            <a:off x="4856040" y="4317840"/>
            <a:ext cx="1371600" cy="1752480"/>
            <a:chOff x="4856040" y="4317840"/>
            <a:chExt cx="1371600" cy="1752480"/>
          </a:xfrm>
        </p:grpSpPr>
        <p:sp>
          <p:nvSpPr>
            <p:cNvPr id="471" name=""/>
            <p:cNvSpPr/>
            <p:nvPr/>
          </p:nvSpPr>
          <p:spPr>
            <a:xfrm rot="16200000">
              <a:off x="4665600" y="4508280"/>
              <a:ext cx="1752480" cy="13716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5227560" y="4546440"/>
              <a:ext cx="677520" cy="1295280"/>
              <a:chOff x="5227560" y="4546440"/>
              <a:chExt cx="677520" cy="1295280"/>
            </a:xfrm>
          </p:grpSpPr>
          <p:grpSp>
            <p:nvGrpSpPr>
              <p:cNvPr id="473" name=""/>
              <p:cNvGrpSpPr/>
              <p:nvPr/>
            </p:nvGrpSpPr>
            <p:grpSpPr>
              <a:xfrm>
                <a:off x="5617800" y="4546440"/>
                <a:ext cx="287280" cy="1295280"/>
                <a:chOff x="5617800" y="4546440"/>
                <a:chExt cx="287280" cy="1295280"/>
              </a:xfrm>
            </p:grpSpPr>
            <p:sp>
              <p:nvSpPr>
                <p:cNvPr id="474" name=""/>
                <p:cNvSpPr/>
                <p:nvPr/>
              </p:nvSpPr>
              <p:spPr>
                <a:xfrm flipH="1">
                  <a:off x="5617800" y="4546440"/>
                  <a:ext cx="27792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732280" y="4638240"/>
                  <a:ext cx="84240" cy="9324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5794200" y="566928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5227560" y="4546440"/>
                <a:ext cx="287280" cy="1295280"/>
                <a:chOff x="5227560" y="4546440"/>
                <a:chExt cx="287280" cy="12952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5236920" y="4546440"/>
                  <a:ext cx="27792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5316120" y="4638240"/>
                  <a:ext cx="84240" cy="9324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 flipV="1">
                  <a:off x="5227560" y="566928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1" name=""/>
          <p:cNvGrpSpPr/>
          <p:nvPr/>
        </p:nvGrpSpPr>
        <p:grpSpPr>
          <a:xfrm>
            <a:off x="3921120" y="4089240"/>
            <a:ext cx="1636560" cy="2133720"/>
            <a:chOff x="3921120" y="4089240"/>
            <a:chExt cx="1636560" cy="2133720"/>
          </a:xfrm>
        </p:grpSpPr>
        <p:sp>
          <p:nvSpPr>
            <p:cNvPr id="482" name=""/>
            <p:cNvSpPr/>
            <p:nvPr/>
          </p:nvSpPr>
          <p:spPr>
            <a:xfrm>
              <a:off x="3921120" y="4089240"/>
              <a:ext cx="0" cy="213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57680" y="4089240"/>
              <a:ext cx="0" cy="213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218040" y="3936960"/>
            <a:ext cx="3504960" cy="2133720"/>
            <a:chOff x="3218040" y="3936960"/>
            <a:chExt cx="3504960" cy="2133720"/>
          </a:xfrm>
        </p:grpSpPr>
        <p:sp>
          <p:nvSpPr>
            <p:cNvPr id="485" name=""/>
            <p:cNvSpPr/>
            <p:nvPr/>
          </p:nvSpPr>
          <p:spPr>
            <a:xfrm>
              <a:off x="3218040" y="3936960"/>
              <a:ext cx="3504960" cy="21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3255840" y="4318200"/>
              <a:ext cx="3351960" cy="1752480"/>
              <a:chOff x="3255840" y="4318200"/>
              <a:chExt cx="3351960" cy="1752480"/>
            </a:xfrm>
          </p:grpSpPr>
          <p:grpSp>
            <p:nvGrpSpPr>
              <p:cNvPr id="487" name=""/>
              <p:cNvGrpSpPr/>
              <p:nvPr/>
            </p:nvGrpSpPr>
            <p:grpSpPr>
              <a:xfrm>
                <a:off x="3255840" y="4318200"/>
                <a:ext cx="837720" cy="1752480"/>
                <a:chOff x="3255840" y="4318200"/>
                <a:chExt cx="837720" cy="1752480"/>
              </a:xfrm>
            </p:grpSpPr>
            <p:sp>
              <p:nvSpPr>
                <p:cNvPr id="488" name=""/>
                <p:cNvSpPr/>
                <p:nvPr/>
              </p:nvSpPr>
              <p:spPr>
                <a:xfrm rot="16200000">
                  <a:off x="2798280" y="4775400"/>
                  <a:ext cx="1752480" cy="8377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9" name=""/>
                <p:cNvGrpSpPr/>
                <p:nvPr/>
              </p:nvGrpSpPr>
              <p:grpSpPr>
                <a:xfrm>
                  <a:off x="3551400" y="4546800"/>
                  <a:ext cx="286200" cy="1295280"/>
                  <a:chOff x="3551400" y="4546800"/>
                  <a:chExt cx="286200" cy="129528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>
                    <a:off x="3560400" y="4546800"/>
                    <a:ext cx="277200" cy="129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>
                    <a:off x="3639960" y="4638600"/>
                    <a:ext cx="83520" cy="93240"/>
                  </a:xfrm>
                  <a:prstGeom prst="line">
                    <a:avLst/>
                  </a:prstGeom>
                  <a:ln w="76320">
                    <a:solidFill>
                      <a:srgbClr val="ffea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flipV="1">
                    <a:off x="355140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5dab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3" name=""/>
              <p:cNvGrpSpPr/>
              <p:nvPr/>
            </p:nvGrpSpPr>
            <p:grpSpPr>
              <a:xfrm>
                <a:off x="4093560" y="4318200"/>
                <a:ext cx="838080" cy="1752480"/>
                <a:chOff x="4093560" y="4318200"/>
                <a:chExt cx="838080" cy="1752480"/>
              </a:xfrm>
            </p:grpSpPr>
            <p:sp>
              <p:nvSpPr>
                <p:cNvPr id="494" name=""/>
                <p:cNvSpPr/>
                <p:nvPr/>
              </p:nvSpPr>
              <p:spPr>
                <a:xfrm rot="16200000">
                  <a:off x="3636360" y="4775400"/>
                  <a:ext cx="1752480" cy="83808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5" name=""/>
                <p:cNvGrpSpPr/>
                <p:nvPr/>
              </p:nvGrpSpPr>
              <p:grpSpPr>
                <a:xfrm>
                  <a:off x="4348440" y="4546800"/>
                  <a:ext cx="286920" cy="1295280"/>
                  <a:chOff x="4348440" y="4546800"/>
                  <a:chExt cx="286920" cy="129528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 flipH="1">
                    <a:off x="4348080" y="4546800"/>
                    <a:ext cx="277560" cy="129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4462920" y="4638600"/>
                    <a:ext cx="83520" cy="93240"/>
                  </a:xfrm>
                  <a:prstGeom prst="line">
                    <a:avLst/>
                  </a:prstGeom>
                  <a:ln w="76320">
                    <a:solidFill>
                      <a:srgbClr val="ffea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V="1">
                    <a:off x="452484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5dab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9" name=""/>
              <p:cNvGrpSpPr/>
              <p:nvPr/>
            </p:nvGrpSpPr>
            <p:grpSpPr>
              <a:xfrm>
                <a:off x="5770080" y="4318200"/>
                <a:ext cx="837720" cy="1752480"/>
                <a:chOff x="5770080" y="4318200"/>
                <a:chExt cx="837720" cy="1752480"/>
              </a:xfrm>
            </p:grpSpPr>
            <p:sp>
              <p:nvSpPr>
                <p:cNvPr id="500" name=""/>
                <p:cNvSpPr/>
                <p:nvPr/>
              </p:nvSpPr>
              <p:spPr>
                <a:xfrm rot="16200000">
                  <a:off x="5312520" y="4775400"/>
                  <a:ext cx="1752480" cy="8377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1" name=""/>
                <p:cNvGrpSpPr/>
                <p:nvPr/>
              </p:nvGrpSpPr>
              <p:grpSpPr>
                <a:xfrm>
                  <a:off x="6024960" y="4546800"/>
                  <a:ext cx="286920" cy="1295280"/>
                  <a:chOff x="6024960" y="4546800"/>
                  <a:chExt cx="286920" cy="129528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 flipH="1">
                    <a:off x="6024600" y="4546800"/>
                    <a:ext cx="277560" cy="129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6139440" y="4638600"/>
                    <a:ext cx="83880" cy="93240"/>
                  </a:xfrm>
                  <a:prstGeom prst="line">
                    <a:avLst/>
                  </a:prstGeom>
                  <a:ln w="76320">
                    <a:solidFill>
                      <a:srgbClr val="ff94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V="1">
                    <a:off x="620136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5" name=""/>
              <p:cNvGrpSpPr/>
              <p:nvPr/>
            </p:nvGrpSpPr>
            <p:grpSpPr>
              <a:xfrm>
                <a:off x="4932000" y="4318200"/>
                <a:ext cx="837720" cy="1752480"/>
                <a:chOff x="4932000" y="4318200"/>
                <a:chExt cx="837720" cy="1752480"/>
              </a:xfrm>
            </p:grpSpPr>
            <p:sp>
              <p:nvSpPr>
                <p:cNvPr id="506" name=""/>
                <p:cNvSpPr/>
                <p:nvPr/>
              </p:nvSpPr>
              <p:spPr>
                <a:xfrm rot="16200000">
                  <a:off x="4474440" y="4775400"/>
                  <a:ext cx="1752480" cy="8377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7" name=""/>
                <p:cNvGrpSpPr/>
                <p:nvPr/>
              </p:nvGrpSpPr>
              <p:grpSpPr>
                <a:xfrm>
                  <a:off x="5226840" y="4546800"/>
                  <a:ext cx="286920" cy="1295280"/>
                  <a:chOff x="5226840" y="4546800"/>
                  <a:chExt cx="286920" cy="129528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>
                    <a:off x="5236200" y="4546800"/>
                    <a:ext cx="277560" cy="129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flipH="1">
                    <a:off x="5315400" y="4638600"/>
                    <a:ext cx="83880" cy="93240"/>
                  </a:xfrm>
                  <a:prstGeom prst="line">
                    <a:avLst/>
                  </a:prstGeom>
                  <a:ln w="76320">
                    <a:solidFill>
                      <a:srgbClr val="ff94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flipV="1">
                    <a:off x="522684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11" name=""/>
          <p:cNvSpPr/>
          <p:nvPr/>
        </p:nvSpPr>
        <p:spPr>
          <a:xfrm>
            <a:off x="1351080" y="416556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500"/>
                            </p:stCondLst>
                            <p:childTnLst>
                              <p:par>
                                <p:cTn id="8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5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w of Segreg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4267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ich stage of  meiosis creates th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aw of segregatio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 flipH="1">
            <a:off x="18216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 flipH="1">
            <a:off x="293760" y="3648240"/>
            <a:ext cx="2442960" cy="1517400"/>
          </a:xfrm>
          <a:prstGeom prst="wedgeEllipseCallout">
            <a:avLst>
              <a:gd name="adj1" fmla="val 14324"/>
              <a:gd name="adj2" fmla="val 8712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o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And Mendel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idn’t even know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NA or gen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xisted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rcRect l="0" t="0" r="0" b="3597"/>
          <a:stretch/>
        </p:blipFill>
        <p:spPr>
          <a:xfrm>
            <a:off x="5251320" y="520560"/>
            <a:ext cx="3780000" cy="6193080"/>
          </a:xfrm>
          <a:prstGeom prst="rect">
            <a:avLst/>
          </a:prstGeom>
          <a:ln w="0">
            <a:noFill/>
          </a:ln>
        </p:spPr>
      </p:pic>
      <p:grpSp>
        <p:nvGrpSpPr>
          <p:cNvPr id="517" name=""/>
          <p:cNvGrpSpPr/>
          <p:nvPr/>
        </p:nvGrpSpPr>
        <p:grpSpPr>
          <a:xfrm>
            <a:off x="2578320" y="3152520"/>
            <a:ext cx="2727000" cy="854280"/>
            <a:chOff x="2578320" y="3152520"/>
            <a:chExt cx="2727000" cy="854280"/>
          </a:xfrm>
        </p:grpSpPr>
        <p:sp>
          <p:nvSpPr>
            <p:cNvPr id="518" name=""/>
            <p:cNvSpPr/>
            <p:nvPr/>
          </p:nvSpPr>
          <p:spPr>
            <a:xfrm>
              <a:off x="3171960" y="3473640"/>
              <a:ext cx="2133360" cy="533160"/>
            </a:xfrm>
            <a:custGeom>
              <a:avLst/>
              <a:gdLst>
                <a:gd name="textAreaLeft" fmla="*/ 333360 w 2133360"/>
                <a:gd name="textAreaRight" fmla="*/ 1866960 w 213336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78320" y="3152520"/>
              <a:ext cx="2169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Metaphase 1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ono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me of Mendel’s experiments followed the inheritance of single character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lower col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color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onohybri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cros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066680" y="4495680"/>
            <a:ext cx="701064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11250" t="3000" r="16878" b="1504"/>
          <a:stretch/>
        </p:blipFill>
        <p:spPr>
          <a:xfrm>
            <a:off x="5950080" y="3603600"/>
            <a:ext cx="3166920" cy="31561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regor Mende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9320" y="1371240"/>
            <a:ext cx="6483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dern genetics began in the mid-1800s in an abbey garden, where a monk named Gregor Mendel documented inheritance in pea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sed experimental metho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sed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quantitative analy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llected data &amp; counted them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cellent example of scientific metho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 flipH="1">
            <a:off x="7089480" y="380880"/>
            <a:ext cx="18939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rcRect l="18000" t="2252" r="19128" b="1504"/>
          <a:stretch/>
        </p:blipFill>
        <p:spPr>
          <a:xfrm>
            <a:off x="5162400" y="1308240"/>
            <a:ext cx="3603600" cy="414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6880" y="1371600"/>
            <a:ext cx="4875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ther of Mendel’s experiments followed the inheritance of 2 different character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color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n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shap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ihybri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cros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 flipH="1">
            <a:off x="174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 flipH="1">
            <a:off x="1967040" y="5238720"/>
            <a:ext cx="2533680" cy="1430280"/>
          </a:xfrm>
          <a:prstGeom prst="wedgeEllipseCallout">
            <a:avLst>
              <a:gd name="adj1" fmla="val 76189"/>
              <a:gd name="adj2" fmla="val -793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Mendel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as working ou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many of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genetic rule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214640" y="1598400"/>
            <a:ext cx="26953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ue-breedi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yellow, round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6240" y="1676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969520" y="1598400"/>
            <a:ext cx="29437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ue-breedi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green, wrinkled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17880" y="1729800"/>
            <a:ext cx="3650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51840" y="2040840"/>
            <a:ext cx="124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93360" y="204084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403960" y="1714680"/>
            <a:ext cx="457200" cy="380880"/>
            <a:chOff x="5403960" y="1714680"/>
            <a:chExt cx="457200" cy="380880"/>
          </a:xfrm>
        </p:grpSpPr>
        <p:sp>
          <p:nvSpPr>
            <p:cNvPr id="536" name=""/>
            <p:cNvSpPr/>
            <p:nvPr/>
          </p:nvSpPr>
          <p:spPr>
            <a:xfrm>
              <a:off x="5403960" y="1790640"/>
              <a:ext cx="15228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79920" y="17146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08520" y="1866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08520" y="1790640"/>
              <a:ext cx="15264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632560" y="17146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479920" y="1866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632560" y="19432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79920" y="19432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56240" y="1790640"/>
              <a:ext cx="228600" cy="2286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4897440" y="236232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2120" y="1596600"/>
            <a:ext cx="435240" cy="5040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221040" y="3220920"/>
            <a:ext cx="8708040" cy="1100880"/>
            <a:chOff x="221040" y="3220920"/>
            <a:chExt cx="8708040" cy="1100880"/>
          </a:xfrm>
        </p:grpSpPr>
        <p:sp>
          <p:nvSpPr>
            <p:cNvPr id="548" name=""/>
            <p:cNvSpPr/>
            <p:nvPr/>
          </p:nvSpPr>
          <p:spPr>
            <a:xfrm>
              <a:off x="7774560" y="3460320"/>
              <a:ext cx="1154520" cy="504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100%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1040" y="3220920"/>
              <a:ext cx="1482120" cy="110088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(hybrids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79412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2764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6116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9432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6076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19392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2744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6096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92784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59400" y="3260160"/>
              <a:ext cx="2695320" cy="32832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yellow, round 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1796400" y="2179800"/>
            <a:ext cx="1364040" cy="71172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Y = yello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R = roun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19480" y="2179800"/>
            <a:ext cx="1528560" cy="71172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y = gre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r = wrinkle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4374360" y="4422600"/>
            <a:ext cx="1079640" cy="1079640"/>
          </a:xfrm>
          <a:custGeom>
            <a:avLst/>
            <a:gdLst>
              <a:gd name="textAreaLeft" fmla="*/ -360 w 1079640"/>
              <a:gd name="textAreaRight" fmla="*/ 1079640 w 1079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4734" y="9149"/>
                </a:moveTo>
                <a:arcTo wR="-6287" hR="-6287" stAng="-9886611" swAng="-17154416"/>
                <a:lnTo>
                  <a:pt x="10929" y="21599"/>
                </a:lnTo>
                <a:arcTo wR="10800" hR="10800" stAng="5358972" swAng="17154416"/>
                <a:lnTo>
                  <a:pt x="23826" y="14345"/>
                </a:lnTo>
                <a:lnTo>
                  <a:pt x="17742" y="17826"/>
                </a:lnTo>
                <a:lnTo>
                  <a:pt x="14261" y="11742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885200" y="475668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8440" y="6321600"/>
            <a:ext cx="1905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51080" y="5025960"/>
            <a:ext cx="1461600" cy="5580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9:3:3: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70160" y="5693760"/>
            <a:ext cx="114444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9/1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yellow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ound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570120" y="5693760"/>
            <a:ext cx="114480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3/1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ree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ound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853160" y="5693760"/>
            <a:ext cx="140652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3/1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yellow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rinkl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389640" y="5693760"/>
            <a:ext cx="137484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1/1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ree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rinkl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13120" y="5124600"/>
            <a:ext cx="7092720" cy="1006560"/>
            <a:chOff x="213120" y="5124600"/>
            <a:chExt cx="7092720" cy="1006560"/>
          </a:xfrm>
        </p:grpSpPr>
        <p:sp>
          <p:nvSpPr>
            <p:cNvPr id="571" name=""/>
            <p:cNvSpPr/>
            <p:nvPr/>
          </p:nvSpPr>
          <p:spPr>
            <a:xfrm>
              <a:off x="213120" y="5306760"/>
              <a:ext cx="1482120" cy="82440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14680" y="512460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14640" y="5124600"/>
              <a:ext cx="457200" cy="4572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5327640" y="5176800"/>
              <a:ext cx="457200" cy="380880"/>
              <a:chOff x="5327640" y="5176800"/>
              <a:chExt cx="457200" cy="380880"/>
            </a:xfrm>
          </p:grpSpPr>
          <p:sp>
            <p:nvSpPr>
              <p:cNvPr id="575" name=""/>
              <p:cNvSpPr/>
              <p:nvPr/>
            </p:nvSpPr>
            <p:spPr>
              <a:xfrm>
                <a:off x="5327640" y="5253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03960" y="51768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632560" y="532908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632560" y="5253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556240" y="51768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03960" y="532908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556240" y="54054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03960" y="54054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79920" y="5253120"/>
                <a:ext cx="228600" cy="2286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6848640" y="5176800"/>
              <a:ext cx="457200" cy="380880"/>
              <a:chOff x="6848640" y="5176800"/>
              <a:chExt cx="457200" cy="380880"/>
            </a:xfrm>
          </p:grpSpPr>
          <p:sp>
            <p:nvSpPr>
              <p:cNvPr id="585" name=""/>
              <p:cNvSpPr/>
              <p:nvPr/>
            </p:nvSpPr>
            <p:spPr>
              <a:xfrm>
                <a:off x="6848640" y="5252760"/>
                <a:ext cx="15228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924600" y="5176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153200" y="53290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153200" y="5252760"/>
                <a:ext cx="15264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077240" y="51768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924600" y="53290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077240" y="54054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924600" y="54054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000920" y="5252760"/>
                <a:ext cx="228600" cy="2286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4" name=""/>
          <p:cNvSpPr/>
          <p:nvPr/>
        </p:nvSpPr>
        <p:spPr>
          <a:xfrm>
            <a:off x="4490640" y="40219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’s going on her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f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gene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re on different chromosomes…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ow do they assort in the gametes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together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independently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257480" y="2941560"/>
            <a:ext cx="1143000" cy="1143000"/>
            <a:chOff x="1257480" y="2941560"/>
            <a:chExt cx="1143000" cy="1143000"/>
          </a:xfrm>
        </p:grpSpPr>
        <p:sp>
          <p:nvSpPr>
            <p:cNvPr id="598" name=""/>
            <p:cNvSpPr/>
            <p:nvPr/>
          </p:nvSpPr>
          <p:spPr>
            <a:xfrm>
              <a:off x="1257480" y="2941560"/>
              <a:ext cx="1143000" cy="11430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44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93480" y="3237840"/>
              <a:ext cx="1070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yR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838080" y="4876920"/>
            <a:ext cx="838080" cy="838080"/>
            <a:chOff x="838080" y="4876920"/>
            <a:chExt cx="838080" cy="838080"/>
          </a:xfrm>
        </p:grpSpPr>
        <p:sp>
          <p:nvSpPr>
            <p:cNvPr id="601" name=""/>
            <p:cNvSpPr/>
            <p:nvPr/>
          </p:nvSpPr>
          <p:spPr>
            <a:xfrm>
              <a:off x="83808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05400" y="50284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981080" y="4876920"/>
            <a:ext cx="838080" cy="838080"/>
            <a:chOff x="1981080" y="4876920"/>
            <a:chExt cx="838080" cy="838080"/>
          </a:xfrm>
        </p:grpSpPr>
        <p:sp>
          <p:nvSpPr>
            <p:cNvPr id="604" name=""/>
            <p:cNvSpPr/>
            <p:nvPr/>
          </p:nvSpPr>
          <p:spPr>
            <a:xfrm>
              <a:off x="198108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33720" y="5028480"/>
              <a:ext cx="5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1714680" y="415296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284880" y="2933640"/>
            <a:ext cx="1143000" cy="11430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4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320880" y="32299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865840" y="4876920"/>
            <a:ext cx="838080" cy="838080"/>
            <a:chOff x="5865840" y="4876920"/>
            <a:chExt cx="838080" cy="838080"/>
          </a:xfrm>
        </p:grpSpPr>
        <p:sp>
          <p:nvSpPr>
            <p:cNvPr id="610" name=""/>
            <p:cNvSpPr/>
            <p:nvPr/>
          </p:nvSpPr>
          <p:spPr>
            <a:xfrm>
              <a:off x="586584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96880" y="5028480"/>
              <a:ext cx="58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08840" y="4876920"/>
            <a:ext cx="838080" cy="838080"/>
            <a:chOff x="7008840" y="4876920"/>
            <a:chExt cx="838080" cy="838080"/>
          </a:xfrm>
        </p:grpSpPr>
        <p:sp>
          <p:nvSpPr>
            <p:cNvPr id="613" name=""/>
            <p:cNvSpPr/>
            <p:nvPr/>
          </p:nvSpPr>
          <p:spPr>
            <a:xfrm>
              <a:off x="700884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097400" y="50284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6742080" y="416088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836960" y="4876920"/>
            <a:ext cx="838080" cy="838080"/>
            <a:chOff x="4836960" y="4876920"/>
            <a:chExt cx="838080" cy="838080"/>
          </a:xfrm>
        </p:grpSpPr>
        <p:sp>
          <p:nvSpPr>
            <p:cNvPr id="617" name=""/>
            <p:cNvSpPr/>
            <p:nvPr/>
          </p:nvSpPr>
          <p:spPr>
            <a:xfrm>
              <a:off x="483696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04280" y="50284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8029440" y="4884840"/>
            <a:ext cx="838080" cy="838080"/>
            <a:chOff x="8029440" y="4884840"/>
            <a:chExt cx="838080" cy="838080"/>
          </a:xfrm>
        </p:grpSpPr>
        <p:sp>
          <p:nvSpPr>
            <p:cNvPr id="620" name=""/>
            <p:cNvSpPr/>
            <p:nvPr/>
          </p:nvSpPr>
          <p:spPr>
            <a:xfrm>
              <a:off x="8029440" y="488484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182080" y="5036400"/>
              <a:ext cx="5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H="1">
            <a:off x="2559960" y="3152880"/>
            <a:ext cx="1631880" cy="488880"/>
          </a:xfrm>
          <a:custGeom>
            <a:avLst/>
            <a:gdLst>
              <a:gd name="textAreaLeft" fmla="*/ -360 w 1631880"/>
              <a:gd name="textAreaRight" fmla="*/ 1631880 w 163188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s it this?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43640" y="3152880"/>
            <a:ext cx="1449000" cy="488880"/>
          </a:xfrm>
          <a:custGeom>
            <a:avLst/>
            <a:gdLst>
              <a:gd name="textAreaLeft" fmla="*/ 0 w 1449000"/>
              <a:gd name="textAreaRight" fmla="*/ 1449360 w 144900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r this?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 flipH="1">
            <a:off x="26348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 flipH="1">
            <a:off x="4293360" y="5792760"/>
            <a:ext cx="2274840" cy="993960"/>
          </a:xfrm>
          <a:prstGeom prst="wedgeEllipseCallout">
            <a:avLst>
              <a:gd name="adj1" fmla="val 77703"/>
              <a:gd name="adj2" fmla="val -3898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ich syste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xplains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ata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6934320" y="1447920"/>
            <a:ext cx="2133360" cy="5333760"/>
          </a:xfrm>
          <a:prstGeom prst="rect">
            <a:avLst/>
          </a:prstGeom>
          <a:solidFill>
            <a:srgbClr val="b7c1eb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7315200" y="2062440"/>
            <a:ext cx="1670040" cy="769320"/>
            <a:chOff x="7315200" y="2062440"/>
            <a:chExt cx="1670040" cy="769320"/>
          </a:xfrm>
        </p:grpSpPr>
        <p:sp>
          <p:nvSpPr>
            <p:cNvPr id="628" name=""/>
            <p:cNvSpPr/>
            <p:nvPr/>
          </p:nvSpPr>
          <p:spPr>
            <a:xfrm>
              <a:off x="7315200" y="221940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932600" y="206244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9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15200" y="3304080"/>
            <a:ext cx="1670040" cy="769320"/>
            <a:chOff x="7315200" y="3304080"/>
            <a:chExt cx="1670040" cy="769320"/>
          </a:xfrm>
        </p:grpSpPr>
        <p:sp>
          <p:nvSpPr>
            <p:cNvPr id="631" name=""/>
            <p:cNvSpPr/>
            <p:nvPr/>
          </p:nvSpPr>
          <p:spPr>
            <a:xfrm>
              <a:off x="7315200" y="3461040"/>
              <a:ext cx="457200" cy="4572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932600" y="330408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315200" y="4545360"/>
            <a:ext cx="1809720" cy="769320"/>
            <a:chOff x="7315200" y="4545360"/>
            <a:chExt cx="1809720" cy="769320"/>
          </a:xfrm>
        </p:grpSpPr>
        <p:grpSp>
          <p:nvGrpSpPr>
            <p:cNvPr id="634" name=""/>
            <p:cNvGrpSpPr/>
            <p:nvPr/>
          </p:nvGrpSpPr>
          <p:grpSpPr>
            <a:xfrm>
              <a:off x="7315200" y="4740120"/>
              <a:ext cx="457200" cy="380880"/>
              <a:chOff x="7315200" y="4740120"/>
              <a:chExt cx="457200" cy="380880"/>
            </a:xfrm>
          </p:grpSpPr>
          <p:sp>
            <p:nvSpPr>
              <p:cNvPr id="635" name=""/>
              <p:cNvSpPr/>
              <p:nvPr/>
            </p:nvSpPr>
            <p:spPr>
              <a:xfrm>
                <a:off x="731520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39152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6201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62012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54380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3915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4380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39152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467480" y="4816440"/>
                <a:ext cx="228600" cy="2286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7792920" y="454536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7315200" y="5788440"/>
            <a:ext cx="1809720" cy="769320"/>
            <a:chOff x="7315200" y="5788440"/>
            <a:chExt cx="1809720" cy="769320"/>
          </a:xfrm>
        </p:grpSpPr>
        <p:grpSp>
          <p:nvGrpSpPr>
            <p:cNvPr id="646" name=""/>
            <p:cNvGrpSpPr/>
            <p:nvPr/>
          </p:nvGrpSpPr>
          <p:grpSpPr>
            <a:xfrm>
              <a:off x="7315200" y="5983200"/>
              <a:ext cx="457200" cy="380880"/>
              <a:chOff x="7315200" y="5983200"/>
              <a:chExt cx="457200" cy="380880"/>
            </a:xfrm>
          </p:grpSpPr>
          <p:sp>
            <p:nvSpPr>
              <p:cNvPr id="647" name=""/>
              <p:cNvSpPr/>
              <p:nvPr/>
            </p:nvSpPr>
            <p:spPr>
              <a:xfrm>
                <a:off x="7315200" y="6059160"/>
                <a:ext cx="15228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391160" y="59832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6197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619760" y="6059160"/>
                <a:ext cx="15264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543800" y="59832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3911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543800" y="62118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391160" y="6211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467480" y="6059160"/>
                <a:ext cx="228600" cy="2286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7792920" y="578844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1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aphicFrame>
        <p:nvGraphicFramePr>
          <p:cNvPr id="657" name=""/>
          <p:cNvGraphicFramePr/>
          <p:nvPr/>
        </p:nvGraphicFramePr>
        <p:xfrm>
          <a:off x="1873080" y="3497400"/>
          <a:ext cx="3487680" cy="2342520"/>
        </p:xfrm>
        <a:graphic>
          <a:graphicData uri="http://schemas.openxmlformats.org/drawingml/2006/table">
            <a:tbl>
              <a:tblPr/>
              <a:tblGrid>
                <a:gridCol w="1744200"/>
                <a:gridCol w="1743480"/>
              </a:tblGrid>
              <a:tr h="121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 this the way it work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1548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58552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367720" y="29854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243680" y="2985480"/>
            <a:ext cx="5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19880" y="3825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89440" y="5068080"/>
            <a:ext cx="5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092320" y="1370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21932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9548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7020000" y="345960"/>
            <a:ext cx="1962720" cy="1322640"/>
            <a:chOff x="7020000" y="345960"/>
            <a:chExt cx="1962720" cy="1322640"/>
          </a:xfrm>
        </p:grpSpPr>
        <p:grpSp>
          <p:nvGrpSpPr>
            <p:cNvPr id="669" name=""/>
            <p:cNvGrpSpPr/>
            <p:nvPr/>
          </p:nvGrpSpPr>
          <p:grpSpPr>
            <a:xfrm>
              <a:off x="7671600" y="345960"/>
              <a:ext cx="712440" cy="541800"/>
              <a:chOff x="7671600" y="345960"/>
              <a:chExt cx="712440" cy="541800"/>
            </a:xfrm>
          </p:grpSpPr>
          <p:sp>
            <p:nvSpPr>
              <p:cNvPr id="670" name=""/>
              <p:cNvSpPr/>
              <p:nvPr/>
            </p:nvSpPr>
            <p:spPr>
              <a:xfrm>
                <a:off x="7754400" y="345960"/>
                <a:ext cx="542160" cy="54180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671600" y="43092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7547040" y="1267560"/>
              <a:ext cx="421560" cy="397440"/>
              <a:chOff x="7547040" y="1267560"/>
              <a:chExt cx="421560" cy="397440"/>
            </a:xfrm>
          </p:grpSpPr>
          <p:sp>
            <p:nvSpPr>
              <p:cNvPr id="673" name=""/>
              <p:cNvSpPr/>
              <p:nvPr/>
            </p:nvSpPr>
            <p:spPr>
              <a:xfrm>
                <a:off x="7555680" y="1267560"/>
                <a:ext cx="39780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547040" y="128196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8064720" y="1267560"/>
              <a:ext cx="471960" cy="397440"/>
              <a:chOff x="8064720" y="1267560"/>
              <a:chExt cx="471960" cy="397440"/>
            </a:xfrm>
          </p:grpSpPr>
          <p:sp>
            <p:nvSpPr>
              <p:cNvPr id="676" name=""/>
              <p:cNvSpPr/>
              <p:nvPr/>
            </p:nvSpPr>
            <p:spPr>
              <a:xfrm>
                <a:off x="809784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064720" y="128196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7971480" y="927720"/>
              <a:ext cx="108360" cy="397440"/>
            </a:xfrm>
            <a:prstGeom prst="downArrow">
              <a:avLst>
                <a:gd name="adj1" fmla="val 50000"/>
                <a:gd name="adj2" fmla="val 916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7020000" y="1267560"/>
              <a:ext cx="497880" cy="397440"/>
              <a:chOff x="7020000" y="1267560"/>
              <a:chExt cx="497880" cy="397440"/>
            </a:xfrm>
          </p:grpSpPr>
          <p:sp>
            <p:nvSpPr>
              <p:cNvPr id="680" name=""/>
              <p:cNvSpPr/>
              <p:nvPr/>
            </p:nvSpPr>
            <p:spPr>
              <a:xfrm>
                <a:off x="706788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20000" y="128196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8582040" y="1271160"/>
              <a:ext cx="400680" cy="397440"/>
              <a:chOff x="8582040" y="1271160"/>
              <a:chExt cx="400680" cy="397440"/>
            </a:xfrm>
          </p:grpSpPr>
          <p:sp>
            <p:nvSpPr>
              <p:cNvPr id="683" name=""/>
              <p:cNvSpPr/>
              <p:nvPr/>
            </p:nvSpPr>
            <p:spPr>
              <a:xfrm>
                <a:off x="8582040" y="12711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587080" y="128700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5" name=""/>
          <p:cNvGrpSpPr/>
          <p:nvPr/>
        </p:nvGrpSpPr>
        <p:grpSpPr>
          <a:xfrm>
            <a:off x="5658120" y="363600"/>
            <a:ext cx="976680" cy="1287000"/>
            <a:chOff x="5658120" y="363600"/>
            <a:chExt cx="976680" cy="1287000"/>
          </a:xfrm>
        </p:grpSpPr>
        <p:grpSp>
          <p:nvGrpSpPr>
            <p:cNvPr id="686" name=""/>
            <p:cNvGrpSpPr/>
            <p:nvPr/>
          </p:nvGrpSpPr>
          <p:grpSpPr>
            <a:xfrm>
              <a:off x="5814360" y="363600"/>
              <a:ext cx="712440" cy="528840"/>
              <a:chOff x="5814360" y="363600"/>
              <a:chExt cx="712440" cy="528840"/>
            </a:xfrm>
          </p:grpSpPr>
          <p:sp>
            <p:nvSpPr>
              <p:cNvPr id="687" name=""/>
              <p:cNvSpPr/>
              <p:nvPr/>
            </p:nvSpPr>
            <p:spPr>
              <a:xfrm>
                <a:off x="5902560" y="363600"/>
                <a:ext cx="528840" cy="5288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814360" y="4420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5658120" y="1262880"/>
              <a:ext cx="497880" cy="387720"/>
              <a:chOff x="5658120" y="1262880"/>
              <a:chExt cx="497880" cy="387720"/>
            </a:xfrm>
          </p:grpSpPr>
          <p:sp>
            <p:nvSpPr>
              <p:cNvPr id="690" name=""/>
              <p:cNvSpPr/>
              <p:nvPr/>
            </p:nvSpPr>
            <p:spPr>
              <a:xfrm>
                <a:off x="5709240" y="1262880"/>
                <a:ext cx="38772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658120" y="127512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237720" y="1262880"/>
              <a:ext cx="397080" cy="387720"/>
              <a:chOff x="6237720" y="1262880"/>
              <a:chExt cx="397080" cy="387720"/>
            </a:xfrm>
          </p:grpSpPr>
          <p:sp>
            <p:nvSpPr>
              <p:cNvPr id="693" name=""/>
              <p:cNvSpPr/>
              <p:nvPr/>
            </p:nvSpPr>
            <p:spPr>
              <a:xfrm>
                <a:off x="6237720" y="1262880"/>
                <a:ext cx="38736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39160" y="127512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6114600" y="927720"/>
              <a:ext cx="105480" cy="387720"/>
            </a:xfrm>
            <a:prstGeom prst="downArrow">
              <a:avLst>
                <a:gd name="adj1" fmla="val 50000"/>
                <a:gd name="adj2" fmla="val 918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6782040" y="540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102400" y="4060080"/>
            <a:ext cx="124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977640" y="40600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187000" y="52459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063320" y="524592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95520" y="366876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284720" y="366876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494080" y="48718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4284720" y="4910040"/>
            <a:ext cx="457200" cy="380880"/>
            <a:chOff x="4284720" y="4910040"/>
            <a:chExt cx="457200" cy="380880"/>
          </a:xfrm>
        </p:grpSpPr>
        <p:sp>
          <p:nvSpPr>
            <p:cNvPr id="705" name=""/>
            <p:cNvSpPr/>
            <p:nvPr/>
          </p:nvSpPr>
          <p:spPr>
            <a:xfrm>
              <a:off x="4284720" y="4986000"/>
              <a:ext cx="15228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360680" y="491004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89280" y="506232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589280" y="4986000"/>
              <a:ext cx="15264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513320" y="491004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360680" y="506232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13320" y="513864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360680" y="513864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37000" y="4986000"/>
              <a:ext cx="228600" cy="2286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5452920" y="174600"/>
            <a:ext cx="1414440" cy="18097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5589720" y="54673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5345280" y="3711600"/>
            <a:ext cx="1779480" cy="930240"/>
          </a:xfrm>
          <a:prstGeom prst="wedgeEllipseCallout">
            <a:avLst>
              <a:gd name="adj1" fmla="val -18152"/>
              <a:gd name="adj2" fmla="val 15221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ell, that’s</a:t>
            </a:r>
            <a:br>
              <a:rPr sz="1800"/>
            </a:br>
            <a:r>
              <a:rPr b="1" i="1" lang="en-US" sz="1800" spc="-1" strike="noStrike" u="sng">
                <a:solidFill>
                  <a:srgbClr val="0f116a"/>
                </a:solidFill>
                <a:uFillTx/>
                <a:latin typeface="Comic Sans MS"/>
                <a:ea typeface="Geneva"/>
              </a:rPr>
              <a:t>NOT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righ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32960" y="2995560"/>
            <a:ext cx="2241000" cy="36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cc0000"/>
                </a:solidFill>
                <a:latin typeface="Zapf Dingbats"/>
                <a:ea typeface="Zapf Dingbats"/>
              </a:rPr>
              <a:t></a:t>
            </a:r>
            <a:endParaRPr b="0" lang="en-US" sz="33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500"/>
                            </p:stCondLst>
                            <p:childTnLst>
                              <p:par>
                                <p:cTn id="12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8" name=""/>
          <p:cNvGraphicFramePr/>
          <p:nvPr/>
        </p:nvGraphicFramePr>
        <p:xfrm>
          <a:off x="1523880" y="3048120"/>
          <a:ext cx="5181840" cy="336060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</a:tblGrid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91548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8552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02520" y="25138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125520" y="2513880"/>
            <a:ext cx="58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359240" y="251388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17160" y="2529720"/>
            <a:ext cx="5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686520" y="3276000"/>
            <a:ext cx="711000" cy="3065040"/>
            <a:chOff x="686520" y="3276000"/>
            <a:chExt cx="711000" cy="3065040"/>
          </a:xfrm>
        </p:grpSpPr>
        <p:sp>
          <p:nvSpPr>
            <p:cNvPr id="727" name=""/>
            <p:cNvSpPr/>
            <p:nvPr/>
          </p:nvSpPr>
          <p:spPr>
            <a:xfrm>
              <a:off x="686520" y="327600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50600" y="4113720"/>
              <a:ext cx="58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7760" y="49518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70400" y="5790240"/>
              <a:ext cx="5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524600" y="3412440"/>
            <a:ext cx="124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092320" y="1370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1932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89548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83960" y="3412440"/>
            <a:ext cx="111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139280" y="3412440"/>
            <a:ext cx="119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500080" y="341244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588680" y="4298400"/>
            <a:ext cx="111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48040" y="4298400"/>
            <a:ext cx="98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203360" y="429840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564160" y="4298400"/>
            <a:ext cx="94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545120" y="5136480"/>
            <a:ext cx="119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06280" y="51364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60520" y="5136480"/>
            <a:ext cx="115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521680" y="5136480"/>
            <a:ext cx="102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609200" y="589860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968560" y="5898600"/>
            <a:ext cx="94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24600" y="5898600"/>
            <a:ext cx="102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85760" y="589860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91772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20040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9568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9132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17720" y="3962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3200400" y="3962520"/>
            <a:ext cx="457200" cy="380880"/>
            <a:chOff x="3200400" y="3962520"/>
            <a:chExt cx="457200" cy="380880"/>
          </a:xfrm>
        </p:grpSpPr>
        <p:sp>
          <p:nvSpPr>
            <p:cNvPr id="756" name=""/>
            <p:cNvSpPr/>
            <p:nvPr/>
          </p:nvSpPr>
          <p:spPr>
            <a:xfrm>
              <a:off x="320040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7672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50532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0532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42900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7672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42900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27672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52680" y="403884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4495680" y="3962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917720" y="48769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200400" y="48769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495680" y="487692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91320" y="487692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917720" y="56386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3200400" y="5638680"/>
            <a:ext cx="457200" cy="380880"/>
            <a:chOff x="3200400" y="5638680"/>
            <a:chExt cx="457200" cy="380880"/>
          </a:xfrm>
        </p:grpSpPr>
        <p:sp>
          <p:nvSpPr>
            <p:cNvPr id="772" name=""/>
            <p:cNvSpPr/>
            <p:nvPr/>
          </p:nvSpPr>
          <p:spPr>
            <a:xfrm>
              <a:off x="3200400" y="571500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276720" y="56386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505320" y="579096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505320" y="571500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429000" y="56386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276720" y="579096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429000" y="58672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276720" y="58672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352680" y="571500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4495680" y="563868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5791320" y="5638680"/>
            <a:ext cx="457200" cy="380880"/>
            <a:chOff x="5791320" y="5638680"/>
            <a:chExt cx="457200" cy="380880"/>
          </a:xfrm>
        </p:grpSpPr>
        <p:sp>
          <p:nvSpPr>
            <p:cNvPr id="783" name=""/>
            <p:cNvSpPr/>
            <p:nvPr/>
          </p:nvSpPr>
          <p:spPr>
            <a:xfrm>
              <a:off x="5791320" y="5714640"/>
              <a:ext cx="15228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67280" y="56386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5880" y="5790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5880" y="5714640"/>
              <a:ext cx="15264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19920" y="56386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867280" y="5790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19920" y="58672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867280" y="58672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43600" y="5714640"/>
              <a:ext cx="228600" cy="2286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5791320" y="3962520"/>
            <a:ext cx="457200" cy="380880"/>
            <a:chOff x="5791320" y="3962520"/>
            <a:chExt cx="457200" cy="380880"/>
          </a:xfrm>
        </p:grpSpPr>
        <p:sp>
          <p:nvSpPr>
            <p:cNvPr id="793" name=""/>
            <p:cNvSpPr/>
            <p:nvPr/>
          </p:nvSpPr>
          <p:spPr>
            <a:xfrm>
              <a:off x="579132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86764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09624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624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1992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86764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01992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86764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943600" y="403884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6934320" y="1447920"/>
            <a:ext cx="2133360" cy="5333760"/>
          </a:xfrm>
          <a:prstGeom prst="rect">
            <a:avLst/>
          </a:prstGeom>
          <a:solidFill>
            <a:srgbClr val="b7c1eb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7315200" y="2062440"/>
            <a:ext cx="1670040" cy="769320"/>
            <a:chOff x="7315200" y="2062440"/>
            <a:chExt cx="1670040" cy="769320"/>
          </a:xfrm>
        </p:grpSpPr>
        <p:sp>
          <p:nvSpPr>
            <p:cNvPr id="804" name=""/>
            <p:cNvSpPr/>
            <p:nvPr/>
          </p:nvSpPr>
          <p:spPr>
            <a:xfrm>
              <a:off x="7315200" y="221940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932600" y="206244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9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7315200" y="3304080"/>
            <a:ext cx="1670040" cy="769320"/>
            <a:chOff x="7315200" y="3304080"/>
            <a:chExt cx="1670040" cy="769320"/>
          </a:xfrm>
        </p:grpSpPr>
        <p:sp>
          <p:nvSpPr>
            <p:cNvPr id="807" name=""/>
            <p:cNvSpPr/>
            <p:nvPr/>
          </p:nvSpPr>
          <p:spPr>
            <a:xfrm>
              <a:off x="7315200" y="3461040"/>
              <a:ext cx="457200" cy="4572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32600" y="330408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7315200" y="4545360"/>
            <a:ext cx="1809720" cy="769320"/>
            <a:chOff x="7315200" y="4545360"/>
            <a:chExt cx="1809720" cy="769320"/>
          </a:xfrm>
        </p:grpSpPr>
        <p:grpSp>
          <p:nvGrpSpPr>
            <p:cNvPr id="810" name=""/>
            <p:cNvGrpSpPr/>
            <p:nvPr/>
          </p:nvGrpSpPr>
          <p:grpSpPr>
            <a:xfrm>
              <a:off x="7315200" y="4740120"/>
              <a:ext cx="457200" cy="380880"/>
              <a:chOff x="7315200" y="4740120"/>
              <a:chExt cx="457200" cy="380880"/>
            </a:xfrm>
          </p:grpSpPr>
          <p:sp>
            <p:nvSpPr>
              <p:cNvPr id="811" name=""/>
              <p:cNvSpPr/>
              <p:nvPr/>
            </p:nvSpPr>
            <p:spPr>
              <a:xfrm>
                <a:off x="731520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39152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01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012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54380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3915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54380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39152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467480" y="4816440"/>
                <a:ext cx="228600" cy="2286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7792920" y="454536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7315200" y="5788440"/>
            <a:ext cx="1809720" cy="769320"/>
            <a:chOff x="7315200" y="5788440"/>
            <a:chExt cx="1809720" cy="769320"/>
          </a:xfrm>
        </p:grpSpPr>
        <p:grpSp>
          <p:nvGrpSpPr>
            <p:cNvPr id="822" name=""/>
            <p:cNvGrpSpPr/>
            <p:nvPr/>
          </p:nvGrpSpPr>
          <p:grpSpPr>
            <a:xfrm>
              <a:off x="7315200" y="5983200"/>
              <a:ext cx="457200" cy="380880"/>
              <a:chOff x="7315200" y="5983200"/>
              <a:chExt cx="457200" cy="380880"/>
            </a:xfrm>
          </p:grpSpPr>
          <p:sp>
            <p:nvSpPr>
              <p:cNvPr id="823" name=""/>
              <p:cNvSpPr/>
              <p:nvPr/>
            </p:nvSpPr>
            <p:spPr>
              <a:xfrm>
                <a:off x="7315200" y="6059160"/>
                <a:ext cx="15228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391160" y="59832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197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19760" y="6059160"/>
                <a:ext cx="15264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543800" y="59832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3911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543800" y="62118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391160" y="6211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467480" y="6059160"/>
                <a:ext cx="228600" cy="2286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832" name=""/>
            <p:cNvSpPr/>
            <p:nvPr/>
          </p:nvSpPr>
          <p:spPr>
            <a:xfrm>
              <a:off x="7792920" y="578844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1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7020000" y="345960"/>
            <a:ext cx="1962720" cy="1322640"/>
            <a:chOff x="7020000" y="345960"/>
            <a:chExt cx="1962720" cy="1322640"/>
          </a:xfrm>
        </p:grpSpPr>
        <p:grpSp>
          <p:nvGrpSpPr>
            <p:cNvPr id="834" name=""/>
            <p:cNvGrpSpPr/>
            <p:nvPr/>
          </p:nvGrpSpPr>
          <p:grpSpPr>
            <a:xfrm>
              <a:off x="7671600" y="345960"/>
              <a:ext cx="712440" cy="541800"/>
              <a:chOff x="7671600" y="345960"/>
              <a:chExt cx="712440" cy="541800"/>
            </a:xfrm>
          </p:grpSpPr>
          <p:sp>
            <p:nvSpPr>
              <p:cNvPr id="835" name=""/>
              <p:cNvSpPr/>
              <p:nvPr/>
            </p:nvSpPr>
            <p:spPr>
              <a:xfrm>
                <a:off x="7754400" y="345960"/>
                <a:ext cx="542160" cy="54180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71600" y="43092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7547040" y="1267560"/>
              <a:ext cx="421560" cy="397440"/>
              <a:chOff x="7547040" y="1267560"/>
              <a:chExt cx="421560" cy="397440"/>
            </a:xfrm>
          </p:grpSpPr>
          <p:sp>
            <p:nvSpPr>
              <p:cNvPr id="838" name=""/>
              <p:cNvSpPr/>
              <p:nvPr/>
            </p:nvSpPr>
            <p:spPr>
              <a:xfrm>
                <a:off x="7555680" y="1267560"/>
                <a:ext cx="39780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547040" y="128196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8064720" y="1267560"/>
              <a:ext cx="471960" cy="397440"/>
              <a:chOff x="8064720" y="1267560"/>
              <a:chExt cx="471960" cy="397440"/>
            </a:xfrm>
          </p:grpSpPr>
          <p:sp>
            <p:nvSpPr>
              <p:cNvPr id="841" name=""/>
              <p:cNvSpPr/>
              <p:nvPr/>
            </p:nvSpPr>
            <p:spPr>
              <a:xfrm>
                <a:off x="809784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064720" y="128196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843" name=""/>
            <p:cNvSpPr/>
            <p:nvPr/>
          </p:nvSpPr>
          <p:spPr>
            <a:xfrm>
              <a:off x="7971480" y="927720"/>
              <a:ext cx="108360" cy="397440"/>
            </a:xfrm>
            <a:prstGeom prst="downArrow">
              <a:avLst>
                <a:gd name="adj1" fmla="val 50000"/>
                <a:gd name="adj2" fmla="val 916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7020000" y="1267560"/>
              <a:ext cx="497880" cy="397440"/>
              <a:chOff x="7020000" y="1267560"/>
              <a:chExt cx="497880" cy="397440"/>
            </a:xfrm>
          </p:grpSpPr>
          <p:sp>
            <p:nvSpPr>
              <p:cNvPr id="845" name=""/>
              <p:cNvSpPr/>
              <p:nvPr/>
            </p:nvSpPr>
            <p:spPr>
              <a:xfrm>
                <a:off x="706788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20000" y="128196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8582040" y="1271160"/>
              <a:ext cx="400680" cy="397440"/>
              <a:chOff x="8582040" y="1271160"/>
              <a:chExt cx="400680" cy="397440"/>
            </a:xfrm>
          </p:grpSpPr>
          <p:sp>
            <p:nvSpPr>
              <p:cNvPr id="848" name=""/>
              <p:cNvSpPr/>
              <p:nvPr/>
            </p:nvSpPr>
            <p:spPr>
              <a:xfrm>
                <a:off x="8582040" y="12711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587080" y="128700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0" name=""/>
          <p:cNvGrpSpPr/>
          <p:nvPr/>
        </p:nvGrpSpPr>
        <p:grpSpPr>
          <a:xfrm>
            <a:off x="5658120" y="363600"/>
            <a:ext cx="976680" cy="1287000"/>
            <a:chOff x="5658120" y="363600"/>
            <a:chExt cx="976680" cy="1287000"/>
          </a:xfrm>
        </p:grpSpPr>
        <p:grpSp>
          <p:nvGrpSpPr>
            <p:cNvPr id="851" name=""/>
            <p:cNvGrpSpPr/>
            <p:nvPr/>
          </p:nvGrpSpPr>
          <p:grpSpPr>
            <a:xfrm>
              <a:off x="5814360" y="363600"/>
              <a:ext cx="712440" cy="528840"/>
              <a:chOff x="5814360" y="363600"/>
              <a:chExt cx="712440" cy="528840"/>
            </a:xfrm>
          </p:grpSpPr>
          <p:sp>
            <p:nvSpPr>
              <p:cNvPr id="852" name=""/>
              <p:cNvSpPr/>
              <p:nvPr/>
            </p:nvSpPr>
            <p:spPr>
              <a:xfrm>
                <a:off x="5902560" y="363600"/>
                <a:ext cx="528840" cy="5288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814360" y="4420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5658120" y="1262880"/>
              <a:ext cx="497880" cy="387720"/>
              <a:chOff x="5658120" y="1262880"/>
              <a:chExt cx="497880" cy="387720"/>
            </a:xfrm>
          </p:grpSpPr>
          <p:sp>
            <p:nvSpPr>
              <p:cNvPr id="855" name=""/>
              <p:cNvSpPr/>
              <p:nvPr/>
            </p:nvSpPr>
            <p:spPr>
              <a:xfrm>
                <a:off x="5709240" y="1262880"/>
                <a:ext cx="38772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658120" y="127512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6237720" y="1262880"/>
              <a:ext cx="397080" cy="387720"/>
              <a:chOff x="6237720" y="1262880"/>
              <a:chExt cx="397080" cy="387720"/>
            </a:xfrm>
          </p:grpSpPr>
          <p:sp>
            <p:nvSpPr>
              <p:cNvPr id="858" name=""/>
              <p:cNvSpPr/>
              <p:nvPr/>
            </p:nvSpPr>
            <p:spPr>
              <a:xfrm>
                <a:off x="6237720" y="1262880"/>
                <a:ext cx="38736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239160" y="127512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>
              <a:off x="6114600" y="927720"/>
              <a:ext cx="105480" cy="387720"/>
            </a:xfrm>
            <a:prstGeom prst="downArrow">
              <a:avLst>
                <a:gd name="adj1" fmla="val 50000"/>
                <a:gd name="adj2" fmla="val 918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6782040" y="540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813720" y="174600"/>
            <a:ext cx="2330280" cy="18097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611352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6272280" y="4013280"/>
            <a:ext cx="1506600" cy="723960"/>
          </a:xfrm>
          <a:prstGeom prst="wedgeEllipseCallout">
            <a:avLst>
              <a:gd name="adj1" fmla="val -34509"/>
              <a:gd name="adj2" fmla="val 17675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BINGO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825640" y="3293280"/>
            <a:ext cx="297108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900" spc="-1" strike="noStrike">
                <a:solidFill>
                  <a:srgbClr val="008000"/>
                </a:solidFill>
                <a:latin typeface="Zapf Dingbats"/>
                <a:ea typeface="Zapf Dingbats"/>
              </a:rPr>
              <a:t></a:t>
            </a:r>
            <a:endParaRPr b="0" lang="en-US" sz="279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7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6624720" y="260280"/>
            <a:ext cx="2079720" cy="1096920"/>
          </a:xfrm>
          <a:prstGeom prst="wedgeEllipseCallout">
            <a:avLst>
              <a:gd name="adj1" fmla="val 22597"/>
              <a:gd name="adj2" fmla="val 8198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Can you think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of an exceptio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o this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7866000" y="15145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’s 2</a:t>
            </a:r>
            <a:r>
              <a:rPr b="1" lang="en-US" sz="3600" spc="-1" strike="noStrike" baseline="30000">
                <a:solidFill>
                  <a:srgbClr val="660066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law of hered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25280" y="3454560"/>
            <a:ext cx="1342800" cy="1123920"/>
            <a:chOff x="125280" y="3454560"/>
            <a:chExt cx="1342800" cy="1123920"/>
          </a:xfrm>
        </p:grpSpPr>
        <p:sp>
          <p:nvSpPr>
            <p:cNvPr id="870" name=""/>
            <p:cNvSpPr/>
            <p:nvPr/>
          </p:nvSpPr>
          <p:spPr>
            <a:xfrm>
              <a:off x="125280" y="3454560"/>
              <a:ext cx="1333800" cy="112392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250920" y="3510000"/>
              <a:ext cx="953640" cy="457200"/>
              <a:chOff x="250920" y="3510000"/>
              <a:chExt cx="953640" cy="457200"/>
            </a:xfrm>
          </p:grpSpPr>
          <p:sp>
            <p:nvSpPr>
              <p:cNvPr id="872" name=""/>
              <p:cNvSpPr/>
              <p:nvPr/>
            </p:nvSpPr>
            <p:spPr>
              <a:xfrm>
                <a:off x="250920" y="3510000"/>
                <a:ext cx="114120" cy="45720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35160" y="3539880"/>
                <a:ext cx="86940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ound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250920" y="4040280"/>
              <a:ext cx="1217160" cy="457200"/>
              <a:chOff x="250920" y="4040280"/>
              <a:chExt cx="1217160" cy="457200"/>
            </a:xfrm>
          </p:grpSpPr>
          <p:sp>
            <p:nvSpPr>
              <p:cNvPr id="875" name=""/>
              <p:cNvSpPr/>
              <p:nvPr/>
            </p:nvSpPr>
            <p:spPr>
              <a:xfrm>
                <a:off x="250920" y="4040280"/>
                <a:ext cx="76320" cy="457200"/>
              </a:xfrm>
              <a:custGeom>
                <a:avLst/>
                <a:gdLst/>
                <a:ahLst/>
                <a:rect l="l" t="t" r="r" b="b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19680" y="4068720"/>
                <a:ext cx="114840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rinkled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16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Law of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independent assortmen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ifferent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oci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genes) separate into gametes independently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on-homologous chromosomes align independently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lasses of gametes produced in equal amount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YR = Yr = yR = yr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nly true for genes on separate chromosomes or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n same chromosome but so far apart that crossing over happens frequently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117360" y="2363760"/>
            <a:ext cx="1333440" cy="1009800"/>
            <a:chOff x="117360" y="2363760"/>
            <a:chExt cx="1333440" cy="1009800"/>
          </a:xfrm>
        </p:grpSpPr>
        <p:sp>
          <p:nvSpPr>
            <p:cNvPr id="879" name=""/>
            <p:cNvSpPr/>
            <p:nvPr/>
          </p:nvSpPr>
          <p:spPr>
            <a:xfrm>
              <a:off x="117360" y="2363760"/>
              <a:ext cx="1333440" cy="1009800"/>
            </a:xfrm>
            <a:prstGeom prst="roundRect">
              <a:avLst>
                <a:gd name="adj" fmla="val 16667"/>
              </a:avLst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272880" y="2448000"/>
              <a:ext cx="1007640" cy="407880"/>
              <a:chOff x="272880" y="2448000"/>
              <a:chExt cx="1007640" cy="407880"/>
            </a:xfrm>
          </p:grpSpPr>
          <p:sp>
            <p:nvSpPr>
              <p:cNvPr id="881" name=""/>
              <p:cNvSpPr/>
              <p:nvPr/>
            </p:nvSpPr>
            <p:spPr>
              <a:xfrm>
                <a:off x="272880" y="2494080"/>
                <a:ext cx="75960" cy="30456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0720" y="2448000"/>
                <a:ext cx="91980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yellow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272880" y="2887560"/>
              <a:ext cx="924120" cy="407880"/>
              <a:chOff x="272880" y="2887560"/>
              <a:chExt cx="924120" cy="407880"/>
            </a:xfrm>
          </p:grpSpPr>
          <p:sp>
            <p:nvSpPr>
              <p:cNvPr id="884" name=""/>
              <p:cNvSpPr/>
              <p:nvPr/>
            </p:nvSpPr>
            <p:spPr>
              <a:xfrm>
                <a:off x="272880" y="2933640"/>
                <a:ext cx="75960" cy="30456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54960" y="2887560"/>
                <a:ext cx="84204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reen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6" name=""/>
          <p:cNvSpPr/>
          <p:nvPr/>
        </p:nvSpPr>
        <p:spPr>
          <a:xfrm>
            <a:off x="2183040" y="6193800"/>
            <a:ext cx="3070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23532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56884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07520" y="6193800"/>
            <a:ext cx="3070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75152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429440" y="6193800"/>
            <a:ext cx="3070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95400" y="6127920"/>
            <a:ext cx="1420560" cy="73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04436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5488920" y="5419440"/>
            <a:ext cx="2661120" cy="605160"/>
            <a:chOff x="5488920" y="5419440"/>
            <a:chExt cx="2661120" cy="605160"/>
          </a:xfrm>
        </p:grpSpPr>
        <p:sp>
          <p:nvSpPr>
            <p:cNvPr id="895" name=""/>
            <p:cNvSpPr/>
            <p:nvPr/>
          </p:nvSpPr>
          <p:spPr>
            <a:xfrm rot="1800000">
              <a:off x="7543080" y="556200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 rot="3600000">
              <a:off x="6828840" y="564552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7200000">
              <a:off x="6198480" y="564624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 rot="9000000">
              <a:off x="5486040" y="556128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4800600" y="6019920"/>
            <a:ext cx="1930320" cy="838080"/>
            <a:chOff x="4800600" y="6019920"/>
            <a:chExt cx="1930320" cy="838080"/>
          </a:xfrm>
        </p:grpSpPr>
        <p:grpSp>
          <p:nvGrpSpPr>
            <p:cNvPr id="900" name=""/>
            <p:cNvGrpSpPr/>
            <p:nvPr/>
          </p:nvGrpSpPr>
          <p:grpSpPr>
            <a:xfrm>
              <a:off x="4800600" y="6019920"/>
              <a:ext cx="838080" cy="838080"/>
              <a:chOff x="4800600" y="6019920"/>
              <a:chExt cx="838080" cy="838080"/>
            </a:xfrm>
          </p:grpSpPr>
          <p:sp>
            <p:nvSpPr>
              <p:cNvPr id="901" name=""/>
              <p:cNvSpPr/>
              <p:nvPr/>
            </p:nvSpPr>
            <p:spPr>
              <a:xfrm>
                <a:off x="480060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105520" y="6248520"/>
                <a:ext cx="75960" cy="30456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334120" y="6172200"/>
                <a:ext cx="114120" cy="45720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5892840" y="6019920"/>
              <a:ext cx="838080" cy="838080"/>
              <a:chOff x="5892840" y="6019920"/>
              <a:chExt cx="838080" cy="838080"/>
            </a:xfrm>
          </p:grpSpPr>
          <p:sp>
            <p:nvSpPr>
              <p:cNvPr id="905" name=""/>
              <p:cNvSpPr/>
              <p:nvPr/>
            </p:nvSpPr>
            <p:spPr>
              <a:xfrm>
                <a:off x="589284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172200" y="6324480"/>
                <a:ext cx="76320" cy="30492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400800" y="6248520"/>
                <a:ext cx="114480" cy="45720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8" name=""/>
          <p:cNvGrpSpPr/>
          <p:nvPr/>
        </p:nvGrpSpPr>
        <p:grpSpPr>
          <a:xfrm>
            <a:off x="6985080" y="6019920"/>
            <a:ext cx="1930320" cy="838080"/>
            <a:chOff x="6985080" y="6019920"/>
            <a:chExt cx="1930320" cy="838080"/>
          </a:xfrm>
        </p:grpSpPr>
        <p:grpSp>
          <p:nvGrpSpPr>
            <p:cNvPr id="909" name=""/>
            <p:cNvGrpSpPr/>
            <p:nvPr/>
          </p:nvGrpSpPr>
          <p:grpSpPr>
            <a:xfrm>
              <a:off x="6985080" y="6019920"/>
              <a:ext cx="838080" cy="838080"/>
              <a:chOff x="6985080" y="6019920"/>
              <a:chExt cx="838080" cy="838080"/>
            </a:xfrm>
          </p:grpSpPr>
          <p:sp>
            <p:nvSpPr>
              <p:cNvPr id="910" name=""/>
              <p:cNvSpPr/>
              <p:nvPr/>
            </p:nvSpPr>
            <p:spPr>
              <a:xfrm>
                <a:off x="698508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238880" y="6324480"/>
                <a:ext cx="76320" cy="30492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467480" y="6172200"/>
                <a:ext cx="76320" cy="457200"/>
              </a:xfrm>
              <a:custGeom>
                <a:avLst/>
                <a:gdLst/>
                <a:ahLst/>
                <a:rect l="l" t="t" r="r" b="b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8077320" y="6019920"/>
              <a:ext cx="838080" cy="838080"/>
              <a:chOff x="8077320" y="6019920"/>
              <a:chExt cx="838080" cy="838080"/>
            </a:xfrm>
          </p:grpSpPr>
          <p:sp>
            <p:nvSpPr>
              <p:cNvPr id="914" name=""/>
              <p:cNvSpPr/>
              <p:nvPr/>
            </p:nvSpPr>
            <p:spPr>
              <a:xfrm>
                <a:off x="807732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305920" y="6324480"/>
                <a:ext cx="75960" cy="30492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534520" y="6172200"/>
                <a:ext cx="75960" cy="457200"/>
              </a:xfrm>
              <a:custGeom>
                <a:avLst/>
                <a:gdLst/>
                <a:ahLst/>
                <a:rect l="l" t="t" r="r" b="b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7" name=""/>
          <p:cNvGrpSpPr/>
          <p:nvPr/>
        </p:nvGrpSpPr>
        <p:grpSpPr>
          <a:xfrm>
            <a:off x="956880" y="5419440"/>
            <a:ext cx="2661480" cy="605160"/>
            <a:chOff x="956880" y="5419440"/>
            <a:chExt cx="2661480" cy="605160"/>
          </a:xfrm>
        </p:grpSpPr>
        <p:sp>
          <p:nvSpPr>
            <p:cNvPr id="918" name=""/>
            <p:cNvSpPr/>
            <p:nvPr/>
          </p:nvSpPr>
          <p:spPr>
            <a:xfrm rot="1800000">
              <a:off x="3011040" y="55623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 rot="3600000">
              <a:off x="2296800" y="564624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rot="7200000">
              <a:off x="1666800" y="564624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 rot="9000000">
              <a:off x="953640" y="5561280"/>
              <a:ext cx="609840" cy="151920"/>
            </a:xfrm>
            <a:prstGeom prst="rightArrow">
              <a:avLst>
                <a:gd name="adj1" fmla="val 50000"/>
                <a:gd name="adj2" fmla="val 100355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268200" y="6019920"/>
            <a:ext cx="1930320" cy="838080"/>
            <a:chOff x="268200" y="6019920"/>
            <a:chExt cx="1930320" cy="838080"/>
          </a:xfrm>
        </p:grpSpPr>
        <p:grpSp>
          <p:nvGrpSpPr>
            <p:cNvPr id="923" name=""/>
            <p:cNvGrpSpPr/>
            <p:nvPr/>
          </p:nvGrpSpPr>
          <p:grpSpPr>
            <a:xfrm>
              <a:off x="1360440" y="6019920"/>
              <a:ext cx="838080" cy="838080"/>
              <a:chOff x="1360440" y="6019920"/>
              <a:chExt cx="838080" cy="838080"/>
            </a:xfrm>
          </p:grpSpPr>
          <p:sp>
            <p:nvSpPr>
              <p:cNvPr id="924" name=""/>
              <p:cNvSpPr/>
              <p:nvPr/>
            </p:nvSpPr>
            <p:spPr>
              <a:xfrm>
                <a:off x="136044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39800" y="6324480"/>
                <a:ext cx="76320" cy="30492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868400" y="6172200"/>
                <a:ext cx="76320" cy="457200"/>
              </a:xfrm>
              <a:custGeom>
                <a:avLst/>
                <a:gdLst/>
                <a:ahLst/>
                <a:rect l="l" t="t" r="r" b="b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268200" y="6019920"/>
              <a:ext cx="838440" cy="838080"/>
              <a:chOff x="268200" y="6019920"/>
              <a:chExt cx="838440" cy="838080"/>
            </a:xfrm>
          </p:grpSpPr>
          <p:sp>
            <p:nvSpPr>
              <p:cNvPr id="928" name=""/>
              <p:cNvSpPr/>
              <p:nvPr/>
            </p:nvSpPr>
            <p:spPr>
              <a:xfrm>
                <a:off x="268200" y="6019920"/>
                <a:ext cx="83844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73120" y="6248520"/>
                <a:ext cx="76320" cy="30456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2120" y="6172200"/>
                <a:ext cx="75960" cy="457200"/>
              </a:xfrm>
              <a:custGeom>
                <a:avLst/>
                <a:gdLst/>
                <a:ahLst/>
                <a:rect l="l" t="t" r="r" b="b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1" name=""/>
          <p:cNvGrpSpPr/>
          <p:nvPr/>
        </p:nvGrpSpPr>
        <p:grpSpPr>
          <a:xfrm>
            <a:off x="2452680" y="6019920"/>
            <a:ext cx="1930320" cy="838080"/>
            <a:chOff x="2452680" y="6019920"/>
            <a:chExt cx="1930320" cy="838080"/>
          </a:xfrm>
        </p:grpSpPr>
        <p:grpSp>
          <p:nvGrpSpPr>
            <p:cNvPr id="932" name=""/>
            <p:cNvGrpSpPr/>
            <p:nvPr/>
          </p:nvGrpSpPr>
          <p:grpSpPr>
            <a:xfrm>
              <a:off x="2452680" y="6019920"/>
              <a:ext cx="838080" cy="838080"/>
              <a:chOff x="2452680" y="6019920"/>
              <a:chExt cx="838080" cy="838080"/>
            </a:xfrm>
          </p:grpSpPr>
          <p:sp>
            <p:nvSpPr>
              <p:cNvPr id="933" name=""/>
              <p:cNvSpPr/>
              <p:nvPr/>
            </p:nvSpPr>
            <p:spPr>
              <a:xfrm>
                <a:off x="245268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706840" y="6324480"/>
                <a:ext cx="75960" cy="30492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935440" y="6172200"/>
                <a:ext cx="114120" cy="45720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3544920" y="6019920"/>
              <a:ext cx="838080" cy="838080"/>
              <a:chOff x="3544920" y="6019920"/>
              <a:chExt cx="838080" cy="838080"/>
            </a:xfrm>
          </p:grpSpPr>
          <p:sp>
            <p:nvSpPr>
              <p:cNvPr id="937" name=""/>
              <p:cNvSpPr/>
              <p:nvPr/>
            </p:nvSpPr>
            <p:spPr>
              <a:xfrm>
                <a:off x="354492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773520" y="6324480"/>
                <a:ext cx="76320" cy="30492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046400" y="6172200"/>
                <a:ext cx="114480" cy="45720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0" name=""/>
          <p:cNvSpPr/>
          <p:nvPr/>
        </p:nvSpPr>
        <p:spPr>
          <a:xfrm>
            <a:off x="154440" y="579024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21480" y="579024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311560" y="5790240"/>
            <a:ext cx="53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378240" y="5790240"/>
            <a:ext cx="53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658040" y="5790240"/>
            <a:ext cx="5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750280" y="5790240"/>
            <a:ext cx="5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929640" y="579024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996320" y="579024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1752480" y="4495680"/>
            <a:ext cx="1067040" cy="1067040"/>
            <a:chOff x="1752480" y="4495680"/>
            <a:chExt cx="1067040" cy="1067040"/>
          </a:xfrm>
        </p:grpSpPr>
        <p:sp>
          <p:nvSpPr>
            <p:cNvPr id="949" name=""/>
            <p:cNvSpPr/>
            <p:nvPr/>
          </p:nvSpPr>
          <p:spPr>
            <a:xfrm>
              <a:off x="1752480" y="4495680"/>
              <a:ext cx="1067040" cy="106704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049480" y="4572000"/>
              <a:ext cx="7632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278080" y="4572000"/>
              <a:ext cx="7632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274840" y="4952880"/>
              <a:ext cx="114480" cy="45720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54160" y="4952880"/>
              <a:ext cx="76320" cy="457200"/>
            </a:xfrm>
            <a:custGeom>
              <a:avLst/>
              <a:gdLst/>
              <a:ahLst/>
              <a:rect l="l" t="t" r="r" b="b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2167920" y="4572000"/>
              <a:ext cx="7596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2396520" y="4572000"/>
              <a:ext cx="7596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2393280" y="4952880"/>
              <a:ext cx="114120" cy="45720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2173320" y="4952880"/>
              <a:ext cx="76320" cy="457200"/>
            </a:xfrm>
            <a:custGeom>
              <a:avLst/>
              <a:gdLst/>
              <a:ahLst/>
              <a:rect l="l" t="t" r="r" b="b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6284880" y="4495680"/>
            <a:ext cx="1066680" cy="1067040"/>
            <a:chOff x="6284880" y="4495680"/>
            <a:chExt cx="1066680" cy="1067040"/>
          </a:xfrm>
        </p:grpSpPr>
        <p:sp>
          <p:nvSpPr>
            <p:cNvPr id="959" name=""/>
            <p:cNvSpPr/>
            <p:nvPr/>
          </p:nvSpPr>
          <p:spPr>
            <a:xfrm>
              <a:off x="6284880" y="4495680"/>
              <a:ext cx="1066680" cy="106704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13560" y="4572000"/>
              <a:ext cx="7632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842160" y="4572000"/>
              <a:ext cx="7632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6732000" y="4572000"/>
              <a:ext cx="7596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6960600" y="4572000"/>
              <a:ext cx="7596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856560" y="4952880"/>
              <a:ext cx="75960" cy="457200"/>
            </a:xfrm>
            <a:custGeom>
              <a:avLst/>
              <a:gdLst/>
              <a:ahLst/>
              <a:rect l="l" t="t" r="r" b="b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6975360" y="4952880"/>
              <a:ext cx="76320" cy="457200"/>
            </a:xfrm>
            <a:custGeom>
              <a:avLst/>
              <a:gdLst/>
              <a:ahLst/>
              <a:rect l="l" t="t" r="r" b="b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600960" y="4952880"/>
              <a:ext cx="114120" cy="45720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6719760" y="4952880"/>
              <a:ext cx="114480" cy="45720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3930480" y="4441680"/>
            <a:ext cx="1143000" cy="114300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6480" y="459504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070600" y="4708440"/>
            <a:ext cx="768240" cy="609840"/>
          </a:xfrm>
          <a:custGeom>
            <a:avLst/>
            <a:gdLst>
              <a:gd name="textAreaLeft" fmla="*/ 119880 w 768240"/>
              <a:gd name="textAreaRight" fmla="*/ 672480 w 7682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3157560" y="4708440"/>
            <a:ext cx="768240" cy="609840"/>
          </a:xfrm>
          <a:custGeom>
            <a:avLst/>
            <a:gdLst>
              <a:gd name="textAreaLeft" fmla="*/ 120240 w 768240"/>
              <a:gd name="textAreaRight" fmla="*/ 672840 w 7682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48280" y="5089680"/>
            <a:ext cx="75960" cy="30456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ea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370400" y="5156280"/>
            <a:ext cx="76320" cy="30456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63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592520" y="5097600"/>
            <a:ext cx="11448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822920" y="5072040"/>
            <a:ext cx="75960" cy="457200"/>
          </a:xfrm>
          <a:custGeom>
            <a:avLst/>
            <a:gdLst/>
            <a:ahLst/>
            <a:rect l="l" t="t" r="r" b="b"/>
            <a:pathLst>
              <a:path w="72" h="331">
                <a:moveTo>
                  <a:pt x="0" y="0"/>
                </a:moveTo>
                <a:cubicBezTo>
                  <a:pt x="12" y="18"/>
                  <a:pt x="21" y="15"/>
                  <a:pt x="34" y="34"/>
                </a:cubicBezTo>
                <a:cubicBezTo>
                  <a:pt x="27" y="43"/>
                  <a:pt x="14" y="47"/>
                  <a:pt x="10" y="58"/>
                </a:cubicBezTo>
                <a:cubicBezTo>
                  <a:pt x="2" y="74"/>
                  <a:pt x="37" y="89"/>
                  <a:pt x="48" y="96"/>
                </a:cubicBezTo>
                <a:cubicBezTo>
                  <a:pt x="51" y="105"/>
                  <a:pt x="63" y="116"/>
                  <a:pt x="58" y="125"/>
                </a:cubicBezTo>
                <a:cubicBezTo>
                  <a:pt x="44" y="144"/>
                  <a:pt x="31" y="160"/>
                  <a:pt x="24" y="182"/>
                </a:cubicBezTo>
                <a:cubicBezTo>
                  <a:pt x="36" y="201"/>
                  <a:pt x="50" y="220"/>
                  <a:pt x="62" y="240"/>
                </a:cubicBezTo>
                <a:cubicBezTo>
                  <a:pt x="60" y="244"/>
                  <a:pt x="61" y="250"/>
                  <a:pt x="58" y="254"/>
                </a:cubicBezTo>
                <a:cubicBezTo>
                  <a:pt x="49" y="262"/>
                  <a:pt x="29" y="273"/>
                  <a:pt x="29" y="273"/>
                </a:cubicBezTo>
                <a:cubicBezTo>
                  <a:pt x="32" y="286"/>
                  <a:pt x="32" y="297"/>
                  <a:pt x="43" y="307"/>
                </a:cubicBezTo>
                <a:cubicBezTo>
                  <a:pt x="51" y="314"/>
                  <a:pt x="72" y="317"/>
                  <a:pt x="72" y="3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0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1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50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9" dur="500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59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4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4" dur="5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500"/>
                            </p:stCondLst>
                            <p:childTnLst>
                              <p:par>
                                <p:cTn id="1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8" dur="500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500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500"/>
                            </p:stCondLst>
                            <p:childTnLst>
                              <p:par>
                                <p:cTn id="1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5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6" name=""/>
          <p:cNvGrpSpPr/>
          <p:nvPr/>
        </p:nvGrpSpPr>
        <p:grpSpPr>
          <a:xfrm>
            <a:off x="5573880" y="1279440"/>
            <a:ext cx="3447360" cy="5192640"/>
            <a:chOff x="5573880" y="1279440"/>
            <a:chExt cx="3447360" cy="5192640"/>
          </a:xfrm>
        </p:grpSpPr>
        <p:pic>
          <p:nvPicPr>
            <p:cNvPr id="977" name="" descr=""/>
            <p:cNvPicPr/>
            <p:nvPr/>
          </p:nvPicPr>
          <p:blipFill>
            <a:blip r:embed="rId1"/>
            <a:srcRect l="61970" t="0" r="0" b="4984"/>
            <a:stretch/>
          </p:blipFill>
          <p:spPr>
            <a:xfrm>
              <a:off x="6179400" y="1279440"/>
              <a:ext cx="2841840" cy="51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8" name=""/>
            <p:cNvSpPr/>
            <p:nvPr/>
          </p:nvSpPr>
          <p:spPr>
            <a:xfrm>
              <a:off x="5573880" y="1630080"/>
              <a:ext cx="1713960" cy="56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w of Independent Assortme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838080" y="1370160"/>
            <a:ext cx="5688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ich stage of  meiosis creates the law of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independent assortmen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4519800" y="2800080"/>
            <a:ext cx="2727000" cy="854280"/>
            <a:chOff x="4519800" y="2800080"/>
            <a:chExt cx="2727000" cy="854280"/>
          </a:xfrm>
        </p:grpSpPr>
        <p:sp>
          <p:nvSpPr>
            <p:cNvPr id="982" name=""/>
            <p:cNvSpPr/>
            <p:nvPr/>
          </p:nvSpPr>
          <p:spPr>
            <a:xfrm>
              <a:off x="5113440" y="3121200"/>
              <a:ext cx="2133360" cy="533160"/>
            </a:xfrm>
            <a:custGeom>
              <a:avLst/>
              <a:gdLst>
                <a:gd name="textAreaLeft" fmla="*/ 333360 w 2133360"/>
                <a:gd name="textAreaRight" fmla="*/ 1866960 w 213336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519800" y="2800080"/>
              <a:ext cx="2169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Metaphase 1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1616040" y="4226400"/>
            <a:ext cx="4738680" cy="259992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XCEP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If genes are on same chromosome &amp; close together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569880" indent="-226800"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will usually be inherited togethe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569880" indent="-226800"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rarely crossover separately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569880" indent="-226800"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linked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6126120" y="4284360"/>
            <a:ext cx="420840" cy="2475000"/>
            <a:chOff x="6126120" y="4284360"/>
            <a:chExt cx="420840" cy="2475000"/>
          </a:xfrm>
        </p:grpSpPr>
        <p:pic>
          <p:nvPicPr>
            <p:cNvPr id="986" name="" descr=""/>
            <p:cNvPicPr/>
            <p:nvPr/>
          </p:nvPicPr>
          <p:blipFill>
            <a:blip r:embed="rId2"/>
            <a:srcRect l="0" t="16800" r="24302" b="66003"/>
            <a:stretch/>
          </p:blipFill>
          <p:spPr>
            <a:xfrm rot="16200000">
              <a:off x="5099040" y="5311440"/>
              <a:ext cx="247500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" descr=""/>
            <p:cNvPicPr/>
            <p:nvPr/>
          </p:nvPicPr>
          <p:blipFill>
            <a:blip r:embed="rId3"/>
            <a:srcRect l="58501" t="62406" r="34199" b="21600"/>
            <a:stretch/>
          </p:blipFill>
          <p:spPr>
            <a:xfrm rot="16200000">
              <a:off x="6217560" y="5169240"/>
              <a:ext cx="2379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" descr=""/>
            <p:cNvPicPr/>
            <p:nvPr/>
          </p:nvPicPr>
          <p:blipFill>
            <a:blip r:embed="rId4"/>
            <a:srcRect l="51302" t="16800" r="43204" b="66003"/>
            <a:stretch/>
          </p:blipFill>
          <p:spPr>
            <a:xfrm rot="16200000">
              <a:off x="6246000" y="4510440"/>
              <a:ext cx="18108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9" name="" descr=""/>
            <p:cNvPicPr/>
            <p:nvPr/>
          </p:nvPicPr>
          <p:blipFill>
            <a:blip r:embed="rId5"/>
            <a:srcRect l="59404" t="16800" r="35102" b="66003"/>
            <a:stretch/>
          </p:blipFill>
          <p:spPr>
            <a:xfrm rot="16200000">
              <a:off x="6246000" y="5378760"/>
              <a:ext cx="181080" cy="42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0" name="" descr=""/>
          <p:cNvPicPr/>
          <p:nvPr/>
        </p:nvPicPr>
        <p:blipFill>
          <a:blip r:embed="rId6"/>
          <a:stretch/>
        </p:blipFill>
        <p:spPr>
          <a:xfrm flipH="1">
            <a:off x="182160" y="556092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991" name=""/>
          <p:cNvSpPr/>
          <p:nvPr/>
        </p:nvSpPr>
        <p:spPr>
          <a:xfrm flipH="1">
            <a:off x="-720" y="2859120"/>
            <a:ext cx="2274840" cy="1620720"/>
          </a:xfrm>
          <a:prstGeom prst="wedgeEllipseCallout">
            <a:avLst>
              <a:gd name="adj1" fmla="val 1569"/>
              <a:gd name="adj2" fmla="val 12737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Remember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Mendel didn’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ven know DNA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—or genes—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xisted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500"/>
                            </p:stCondLst>
                            <p:childTnLst>
                              <p:par>
                                <p:cTn id="17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" descr=""/>
          <p:cNvPicPr/>
          <p:nvPr/>
        </p:nvPicPr>
        <p:blipFill>
          <a:blip r:embed="rId1"/>
          <a:stretch/>
        </p:blipFill>
        <p:spPr>
          <a:xfrm>
            <a:off x="3179880" y="380880"/>
            <a:ext cx="5964120" cy="6477120"/>
          </a:xfrm>
          <a:prstGeom prst="rect">
            <a:avLst/>
          </a:prstGeom>
          <a:ln w="0">
            <a:noFill/>
          </a:ln>
        </p:spPr>
      </p:pic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chromosomal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asis of Mendel’s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aws…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ce the genetic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vents through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eiosis, gamet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ormation &amp;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ertilization to offspring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view: Mendel’s laws of heredit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Law of segregatio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monohybrid cros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ngle trai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ach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llel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segregates into separate gamet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stablished by Metaphase 1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Law of independent assortmen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dihybrid (or more) cros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2 or more traits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ene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on separate chromosome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ssort into gametes independentl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stablished by Metaphase 1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7216920" y="4971960"/>
            <a:ext cx="1764720" cy="1765080"/>
            <a:chOff x="7216920" y="4971960"/>
            <a:chExt cx="1764720" cy="1765080"/>
          </a:xfrm>
        </p:grpSpPr>
        <p:sp>
          <p:nvSpPr>
            <p:cNvPr id="997" name=""/>
            <p:cNvSpPr/>
            <p:nvPr/>
          </p:nvSpPr>
          <p:spPr>
            <a:xfrm>
              <a:off x="7216920" y="4971960"/>
              <a:ext cx="1764720" cy="176508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8007840" y="5091840"/>
              <a:ext cx="370800" cy="464040"/>
              <a:chOff x="8007840" y="5091840"/>
              <a:chExt cx="370800" cy="464040"/>
            </a:xfrm>
          </p:grpSpPr>
          <p:sp>
            <p:nvSpPr>
              <p:cNvPr id="999" name=""/>
              <p:cNvSpPr/>
              <p:nvPr/>
            </p:nvSpPr>
            <p:spPr>
              <a:xfrm flipV="1">
                <a:off x="8007840" y="5091480"/>
                <a:ext cx="160560" cy="464040"/>
              </a:xfrm>
              <a:custGeom>
                <a:avLst/>
                <a:gdLst/>
                <a:ahLst/>
                <a:rect l="l" t="t" r="r" b="b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 flipV="1">
                <a:off x="8217360" y="5091480"/>
                <a:ext cx="160920" cy="464040"/>
              </a:xfrm>
              <a:custGeom>
                <a:avLst/>
                <a:gdLst/>
                <a:ahLst/>
                <a:rect l="l" t="t" r="r" b="b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8075880" y="5622120"/>
              <a:ext cx="455760" cy="928800"/>
              <a:chOff x="8075880" y="5622120"/>
              <a:chExt cx="455760" cy="928800"/>
            </a:xfrm>
          </p:grpSpPr>
          <p:sp>
            <p:nvSpPr>
              <p:cNvPr id="1002" name=""/>
              <p:cNvSpPr/>
              <p:nvPr/>
            </p:nvSpPr>
            <p:spPr>
              <a:xfrm>
                <a:off x="8075880" y="5622120"/>
                <a:ext cx="224640" cy="9288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8307000" y="5622120"/>
                <a:ext cx="224640" cy="9288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7710120" y="5064480"/>
              <a:ext cx="370800" cy="464400"/>
              <a:chOff x="7710120" y="5064480"/>
              <a:chExt cx="370800" cy="464400"/>
            </a:xfrm>
          </p:grpSpPr>
          <p:sp>
            <p:nvSpPr>
              <p:cNvPr id="1005" name=""/>
              <p:cNvSpPr/>
              <p:nvPr/>
            </p:nvSpPr>
            <p:spPr>
              <a:xfrm flipV="1">
                <a:off x="7710120" y="5064480"/>
                <a:ext cx="160560" cy="464400"/>
              </a:xfrm>
              <a:custGeom>
                <a:avLst/>
                <a:gdLst/>
                <a:ahLst/>
                <a:rect l="l" t="t" r="r" b="b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 flipV="1">
                <a:off x="7919640" y="5064480"/>
                <a:ext cx="160920" cy="464400"/>
              </a:xfrm>
              <a:custGeom>
                <a:avLst/>
                <a:gdLst/>
                <a:ahLst/>
                <a:rect l="l" t="t" r="r" b="b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7718040" y="5622120"/>
              <a:ext cx="456120" cy="928800"/>
              <a:chOff x="7718040" y="5622120"/>
              <a:chExt cx="456120" cy="928800"/>
            </a:xfrm>
          </p:grpSpPr>
          <p:sp>
            <p:nvSpPr>
              <p:cNvPr id="1008" name=""/>
              <p:cNvSpPr/>
              <p:nvPr/>
            </p:nvSpPr>
            <p:spPr>
              <a:xfrm>
                <a:off x="7718040" y="5622120"/>
                <a:ext cx="224640" cy="9288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7949520" y="5622120"/>
                <a:ext cx="224640" cy="9288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0" name=""/>
          <p:cNvSpPr/>
          <p:nvPr/>
        </p:nvSpPr>
        <p:spPr>
          <a:xfrm>
            <a:off x="5498640" y="6296760"/>
            <a:ext cx="179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metaphase1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251080" y="6001200"/>
            <a:ext cx="2530440" cy="74268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XCEP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linked gene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 chose peas wisel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7240" y="1307880"/>
            <a:ext cx="8304480" cy="53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ea plants are good for genetic researc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vailable in many varieties with distinct heritable features with different varia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lower color, seed color, seed shape, etc.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ndel had strict control over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hich plants mated with whic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ch pea plant has male &amp; femal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ructur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ea plants can self-fertiliz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endel could also cross-pollinat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lants: moving pollen from one plant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o anoth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rcRect l="33751" t="3000" r="33751" b="1504"/>
          <a:stretch/>
        </p:blipFill>
        <p:spPr>
          <a:xfrm>
            <a:off x="7461360" y="3166920"/>
            <a:ext cx="16524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66760" y="1324080"/>
            <a:ext cx="1307880" cy="542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7878" t="9000" r="9000" b="1504"/>
          <a:stretch/>
        </p:blipFill>
        <p:spPr>
          <a:xfrm>
            <a:off x="3995640" y="1330200"/>
            <a:ext cx="5148360" cy="4156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19720" y="952560"/>
            <a:ext cx="2960640" cy="3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len transferred from white flower to stigma of purple flower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89360" y="3092400"/>
            <a:ext cx="7430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her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move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16480" y="3602160"/>
            <a:ext cx="227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purple flowers resul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7843320" y="2598480"/>
            <a:ext cx="43524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’s w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012000" y="5294160"/>
            <a:ext cx="1079280" cy="1079640"/>
          </a:xfrm>
          <a:custGeom>
            <a:avLst/>
            <a:gdLst>
              <a:gd name="textAreaLeft" fmla="*/ 360 w 1079280"/>
              <a:gd name="textAreaRight" fmla="*/ 1080000 w 10792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4288" y="10800"/>
                </a:moveTo>
                <a:arcTo wR="-6512" hR="-6512" stAng="-10800000" swAng="-16241028"/>
                <a:lnTo>
                  <a:pt x="10929" y="21599"/>
                </a:lnTo>
                <a:arcTo wR="10800" hR="10800" stAng="5358972" swAng="16241028"/>
                <a:lnTo>
                  <a:pt x="24300" y="10800"/>
                </a:lnTo>
                <a:lnTo>
                  <a:pt x="19456" y="15644"/>
                </a:lnTo>
                <a:lnTo>
                  <a:pt x="14612" y="108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89840" y="4192560"/>
            <a:ext cx="637920" cy="638280"/>
          </a:xfrm>
          <a:prstGeom prst="ellipse">
            <a:avLst/>
          </a:pr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89840" y="1401840"/>
            <a:ext cx="637920" cy="637920"/>
          </a:xfrm>
          <a:prstGeom prst="ellipse">
            <a:avLst/>
          </a:pr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89840" y="6124680"/>
            <a:ext cx="637920" cy="637920"/>
          </a:xfrm>
          <a:prstGeom prst="ellipse">
            <a:avLst/>
          </a:pr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22120" y="568836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92400" y="3787920"/>
            <a:ext cx="357480" cy="447480"/>
          </a:xfrm>
          <a:custGeom>
            <a:avLst/>
            <a:gdLst>
              <a:gd name="textAreaLeft" fmla="*/ 17280 w 357480"/>
              <a:gd name="textAreaRight" fmla="*/ 340200 w 357480"/>
              <a:gd name="textAreaTop" fmla="*/ 17280 h 447480"/>
              <a:gd name="textAreaBottom" fmla="*/ 430200 h 447480"/>
            </a:gdLst>
            <a:ahLst/>
            <a:rect l="textAreaLeft" t="textAreaTop" r="textAreaRight" b="textAreaBottom"/>
            <a:pathLst>
              <a:path w="21600" h="27033">
                <a:moveTo>
                  <a:pt x="3600" y="0"/>
                </a:moveTo>
                <a:arcTo wR="3600" hR="3600" stAng="16200000" swAng="-5400000"/>
                <a:lnTo>
                  <a:pt x="0" y="23433"/>
                </a:lnTo>
                <a:arcTo wR="3600" hR="3600" stAng="10800000" swAng="-5400000"/>
                <a:lnTo>
                  <a:pt x="18000" y="27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379160"/>
            <a:ext cx="8558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red pea plant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ross-pollinate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rue breeding parent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 = parenta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aised seed &amp; the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bserved traits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F = filia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ed offspr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elf-pollinat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&amp; observed next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eneration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 chose peas luckil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ea plants are good for genetic researc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latively simple geneticall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st characters are controlled by a single gene with each gene having only 2 alleles,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one completely dominant over </a:t>
            </a:r>
            <a:br>
              <a:rPr sz="2000"/>
            </a:b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the other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1"/>
          <a:stretch/>
        </p:blipFill>
        <p:spPr>
          <a:xfrm>
            <a:off x="76320" y="5738760"/>
            <a:ext cx="1676160" cy="96696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2"/>
          <a:stretch/>
        </p:blipFill>
        <p:spPr>
          <a:xfrm>
            <a:off x="6780240" y="3249720"/>
            <a:ext cx="2332080" cy="360828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/>
          <p:cNvPicPr/>
          <p:nvPr/>
        </p:nvPicPr>
        <p:blipFill>
          <a:blip r:embed="rId3"/>
          <a:srcRect l="7878" t="9000" r="9000" b="1504"/>
          <a:stretch/>
        </p:blipFill>
        <p:spPr>
          <a:xfrm>
            <a:off x="2298600" y="3859200"/>
            <a:ext cx="3625920" cy="2927520"/>
          </a:xfrm>
          <a:prstGeom prst="rect">
            <a:avLst/>
          </a:prstGeom>
          <a:ln w="0">
            <a:noFill/>
          </a:ln>
        </p:spPr>
      </p:pic>
      <p:sp>
        <p:nvSpPr>
          <p:cNvPr id="1020" name=""/>
          <p:cNvSpPr/>
          <p:nvPr/>
        </p:nvSpPr>
        <p:spPr>
          <a:xfrm flipH="1" flipV="1">
            <a:off x="4949640" y="5202000"/>
            <a:ext cx="91800" cy="16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" descr=""/>
          <p:cNvPicPr/>
          <p:nvPr/>
        </p:nvPicPr>
        <p:blipFill>
          <a:blip r:embed="rId1"/>
          <a:stretch/>
        </p:blipFill>
        <p:spPr>
          <a:xfrm>
            <a:off x="690480" y="2286000"/>
            <a:ext cx="3143160" cy="4421160"/>
          </a:xfrm>
          <a:prstGeom prst="rect">
            <a:avLst/>
          </a:prstGeom>
          <a:ln w="0">
            <a:noFill/>
          </a:ln>
        </p:spPr>
      </p:pic>
      <p:sp>
        <p:nvSpPr>
          <p:cNvPr id="1022" name=""/>
          <p:cNvSpPr/>
          <p:nvPr/>
        </p:nvSpPr>
        <p:spPr>
          <a:xfrm>
            <a:off x="3995640" y="738360"/>
            <a:ext cx="4945320" cy="2911320"/>
          </a:xfrm>
          <a:prstGeom prst="wedgeEllipseCallout">
            <a:avLst>
              <a:gd name="adj1" fmla="val -70287"/>
              <a:gd name="adj2" fmla="val 28625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Geneva"/>
              </a:rPr>
              <a:t>Any Questions?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fill="hold">
                      <p:stCondLst>
                        <p:cond delay="0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1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500"/>
                            </p:stCondLst>
                            <p:childTnLst>
                              <p:par>
                                <p:cTn id="1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45840" y="669240"/>
            <a:ext cx="686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Mendel collected data for 7 pea trait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2013" r="0" b="0"/>
          <a:stretch/>
        </p:blipFill>
        <p:spPr>
          <a:xfrm>
            <a:off x="1295280" y="1228680"/>
            <a:ext cx="66294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5310000"/>
            <a:ext cx="8745120" cy="1544760"/>
            <a:chOff x="0" y="5310000"/>
            <a:chExt cx="8745120" cy="1544760"/>
          </a:xfrm>
        </p:grpSpPr>
        <p:sp>
          <p:nvSpPr>
            <p:cNvPr id="127" name=""/>
            <p:cNvSpPr/>
            <p:nvPr/>
          </p:nvSpPr>
          <p:spPr>
            <a:xfrm>
              <a:off x="0" y="6321240"/>
              <a:ext cx="1905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7720" y="5719680"/>
              <a:ext cx="1482120" cy="82440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14320" y="5330520"/>
              <a:ext cx="730800" cy="504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3:1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767960" y="5310000"/>
              <a:ext cx="2663280" cy="1544760"/>
              <a:chOff x="1767960" y="5310000"/>
              <a:chExt cx="2663280" cy="1544760"/>
            </a:xfrm>
          </p:grpSpPr>
          <p:sp>
            <p:nvSpPr>
              <p:cNvPr id="131" name=""/>
              <p:cNvSpPr/>
              <p:nvPr/>
            </p:nvSpPr>
            <p:spPr>
              <a:xfrm>
                <a:off x="1767960" y="5310000"/>
                <a:ext cx="266328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75%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660066"/>
                    </a:solidFill>
                    <a:latin typeface="Arial"/>
                  </a:rPr>
                  <a:t>purple-flower peas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901520" y="5940360"/>
                <a:ext cx="2396520" cy="914400"/>
                <a:chOff x="1901520" y="5940360"/>
                <a:chExt cx="2396520" cy="914400"/>
              </a:xfrm>
            </p:grpSpPr>
            <p:pic>
              <p:nvPicPr>
                <p:cNvPr id="133" name="" descr=""/>
                <p:cNvPicPr/>
                <p:nvPr/>
              </p:nvPicPr>
              <p:blipFill>
                <a:blip r:embed="rId1"/>
                <a:srcRect l="9000" t="66008" r="75379" b="7504"/>
                <a:stretch/>
              </p:blipFill>
              <p:spPr>
                <a:xfrm>
                  <a:off x="1901520" y="594036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"/>
                <a:srcRect l="9000" t="66008" r="75379" b="7504"/>
                <a:stretch/>
              </p:blipFill>
              <p:spPr>
                <a:xfrm>
                  <a:off x="2739240" y="594036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3"/>
                <a:srcRect l="9000" t="66008" r="75379" b="7504"/>
                <a:stretch/>
              </p:blipFill>
              <p:spPr>
                <a:xfrm>
                  <a:off x="3579120" y="594036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6" name=""/>
            <p:cNvGrpSpPr/>
            <p:nvPr/>
          </p:nvGrpSpPr>
          <p:grpSpPr>
            <a:xfrm>
              <a:off x="4795560" y="5310000"/>
              <a:ext cx="2523240" cy="1524240"/>
              <a:chOff x="4795560" y="5310000"/>
              <a:chExt cx="2523240" cy="1524240"/>
            </a:xfrm>
          </p:grpSpPr>
          <p:sp>
            <p:nvSpPr>
              <p:cNvPr id="137" name=""/>
              <p:cNvSpPr/>
              <p:nvPr/>
            </p:nvSpPr>
            <p:spPr>
              <a:xfrm>
                <a:off x="4795560" y="5310000"/>
                <a:ext cx="252324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ヒラギノ角ゴ Pro W3"/>
                  </a:rPr>
                  <a:t>_x0008__x0008_</a:t>
                </a: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25%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white-flower peas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pic>
            <p:nvPicPr>
              <p:cNvPr id="138" name="" descr=""/>
              <p:cNvPicPr/>
              <p:nvPr/>
            </p:nvPicPr>
            <p:blipFill>
              <a:blip r:embed="rId4"/>
              <a:srcRect l="78757" t="66008" r="4500" b="7504"/>
              <a:stretch/>
            </p:blipFill>
            <p:spPr>
              <a:xfrm>
                <a:off x="5678640" y="5940360"/>
                <a:ext cx="758880" cy="893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ooking closer at Mendel’s w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9080" y="205740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0880" y="1599840"/>
            <a:ext cx="435240" cy="5040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09800" y="3122280"/>
            <a:ext cx="8841600" cy="1602000"/>
            <a:chOff x="109800" y="3122280"/>
            <a:chExt cx="8841600" cy="1602000"/>
          </a:xfrm>
        </p:grpSpPr>
        <p:sp>
          <p:nvSpPr>
            <p:cNvPr id="143" name=""/>
            <p:cNvSpPr/>
            <p:nvPr/>
          </p:nvSpPr>
          <p:spPr>
            <a:xfrm>
              <a:off x="7796880" y="3460320"/>
              <a:ext cx="1154520" cy="504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100%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9800" y="3224160"/>
              <a:ext cx="1482120" cy="110088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(hybrids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2925720" y="3122280"/>
              <a:ext cx="3233880" cy="1602000"/>
              <a:chOff x="2925720" y="3122280"/>
              <a:chExt cx="3233880" cy="1602000"/>
            </a:xfrm>
          </p:grpSpPr>
          <p:sp>
            <p:nvSpPr>
              <p:cNvPr id="146" name=""/>
              <p:cNvSpPr/>
              <p:nvPr/>
            </p:nvSpPr>
            <p:spPr>
              <a:xfrm>
                <a:off x="3210840" y="3122280"/>
                <a:ext cx="266328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100%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660066"/>
                    </a:solidFill>
                    <a:latin typeface="Arial"/>
                  </a:rPr>
                  <a:t>purple-flower peas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2925720" y="3809880"/>
                <a:ext cx="3233880" cy="914400"/>
                <a:chOff x="2925720" y="3809880"/>
                <a:chExt cx="3233880" cy="914400"/>
              </a:xfrm>
            </p:grpSpPr>
            <p:pic>
              <p:nvPicPr>
                <p:cNvPr id="148" name="" descr=""/>
                <p:cNvPicPr/>
                <p:nvPr/>
              </p:nvPicPr>
              <p:blipFill>
                <a:blip r:embed="rId5"/>
                <a:srcRect l="9000" t="66008" r="75379" b="7504"/>
                <a:stretch/>
              </p:blipFill>
              <p:spPr>
                <a:xfrm>
                  <a:off x="292572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" name="" descr=""/>
                <p:cNvPicPr/>
                <p:nvPr/>
              </p:nvPicPr>
              <p:blipFill>
                <a:blip r:embed="rId6"/>
                <a:srcRect l="9000" t="66008" r="75379" b="7504"/>
                <a:stretch/>
              </p:blipFill>
              <p:spPr>
                <a:xfrm>
                  <a:off x="376380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" descr=""/>
                <p:cNvPicPr/>
                <p:nvPr/>
              </p:nvPicPr>
              <p:blipFill>
                <a:blip r:embed="rId7"/>
                <a:srcRect l="9000" t="66008" r="75379" b="7504"/>
                <a:stretch/>
              </p:blipFill>
              <p:spPr>
                <a:xfrm>
                  <a:off x="4602240" y="380988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" name="" descr=""/>
                <p:cNvPicPr/>
                <p:nvPr/>
              </p:nvPicPr>
              <p:blipFill>
                <a:blip r:embed="rId8"/>
                <a:srcRect l="9000" t="66008" r="75379" b="7504"/>
                <a:stretch/>
              </p:blipFill>
              <p:spPr>
                <a:xfrm>
                  <a:off x="544032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52" name=""/>
          <p:cNvSpPr/>
          <p:nvPr/>
        </p:nvSpPr>
        <p:spPr>
          <a:xfrm>
            <a:off x="4348080" y="1512360"/>
            <a:ext cx="4017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93080" y="1369800"/>
            <a:ext cx="2663280" cy="1540080"/>
            <a:chOff x="1693080" y="1369800"/>
            <a:chExt cx="2663280" cy="1540080"/>
          </a:xfrm>
        </p:grpSpPr>
        <p:sp>
          <p:nvSpPr>
            <p:cNvPr id="154" name=""/>
            <p:cNvSpPr/>
            <p:nvPr/>
          </p:nvSpPr>
          <p:spPr>
            <a:xfrm>
              <a:off x="1693080" y="1369800"/>
              <a:ext cx="266328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true-breeding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purple-flower 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9"/>
            <a:srcRect l="9000" t="66008" r="75379" b="7504"/>
            <a:stretch/>
          </p:blipFill>
          <p:spPr>
            <a:xfrm>
              <a:off x="2679480" y="1995480"/>
              <a:ext cx="719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"/>
          <p:cNvGrpSpPr/>
          <p:nvPr/>
        </p:nvGrpSpPr>
        <p:grpSpPr>
          <a:xfrm>
            <a:off x="4836600" y="1369800"/>
            <a:ext cx="2523240" cy="1519560"/>
            <a:chOff x="4836600" y="1369800"/>
            <a:chExt cx="2523240" cy="1519560"/>
          </a:xfrm>
        </p:grpSpPr>
        <p:sp>
          <p:nvSpPr>
            <p:cNvPr id="157" name=""/>
            <p:cNvSpPr/>
            <p:nvPr/>
          </p:nvSpPr>
          <p:spPr>
            <a:xfrm>
              <a:off x="4836600" y="1369800"/>
              <a:ext cx="252324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rue-breeding 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hite-flower 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0"/>
            <a:srcRect l="78757" t="66008" r="4500" b="7504"/>
            <a:stretch/>
          </p:blipFill>
          <p:spPr>
            <a:xfrm>
              <a:off x="5769000" y="1995480"/>
              <a:ext cx="758520" cy="89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"/>
          <p:cNvSpPr/>
          <p:nvPr/>
        </p:nvSpPr>
        <p:spPr>
          <a:xfrm flipH="1">
            <a:off x="3906000" y="4452840"/>
            <a:ext cx="1079640" cy="1079640"/>
          </a:xfrm>
          <a:custGeom>
            <a:avLst/>
            <a:gdLst>
              <a:gd name="textAreaLeft" fmla="*/ -360 w 1079640"/>
              <a:gd name="textAreaRight" fmla="*/ 1079640 w 1079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4734" y="9149"/>
                </a:moveTo>
                <a:arcTo wR="-6287" hR="-6287" stAng="-9886611" swAng="-17154416"/>
                <a:lnTo>
                  <a:pt x="10929" y="21599"/>
                </a:lnTo>
                <a:arcTo wR="10800" hR="10800" stAng="5358972" swAng="17154416"/>
                <a:lnTo>
                  <a:pt x="23826" y="14345"/>
                </a:lnTo>
                <a:lnTo>
                  <a:pt x="17742" y="17826"/>
                </a:lnTo>
                <a:lnTo>
                  <a:pt x="14261" y="11742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6840" y="492624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89800" y="2308320"/>
            <a:ext cx="1698480" cy="1184040"/>
          </a:xfrm>
          <a:prstGeom prst="wedgeEllipseCallout">
            <a:avLst>
              <a:gd name="adj1" fmla="val -75046"/>
              <a:gd name="adj2" fmla="val 9758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ere di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e whit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flowers go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89800" y="4338720"/>
            <a:ext cx="1698480" cy="1184040"/>
          </a:xfrm>
          <a:prstGeom prst="wedgeEllipseCallout">
            <a:avLst>
              <a:gd name="adj1" fmla="val -67009"/>
              <a:gd name="adj2" fmla="val 9570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it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flowers cam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bac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did Mendel’s findings mean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aits come in alternative vers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urple vs. white flower col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lle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fferent alleles vary in the sequence of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nucleotide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at the specific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locu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of a gen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ome difference in sequence of A, T, C, G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05520" y="396396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57040" y="4332960"/>
            <a:ext cx="4362480" cy="11145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f116a"/>
                </a:solidFill>
                <a:uFillTx/>
                <a:latin typeface="Arial"/>
              </a:rPr>
              <a:t>purple-flower allele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&amp; </a:t>
            </a:r>
            <a:br>
              <a:rPr sz="2200"/>
            </a:br>
            <a:r>
              <a:rPr b="1" lang="en-US" sz="2200" spc="-1" strike="noStrike" u="sng">
                <a:solidFill>
                  <a:srgbClr val="0f116a"/>
                </a:solidFill>
                <a:uFillTx/>
                <a:latin typeface="Arial"/>
              </a:rPr>
              <a:t>white-flower allele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are two DNA variations at </a:t>
            </a:r>
            <a:r>
              <a:rPr b="1" lang="en-US" sz="2200" spc="-1" strike="noStrike" u="sng">
                <a:solidFill>
                  <a:srgbClr val="0f116a"/>
                </a:solidFill>
                <a:uFillTx/>
                <a:latin typeface="Arial"/>
              </a:rPr>
              <a:t>flower-color locu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7040" y="5570640"/>
            <a:ext cx="4362480" cy="111456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different versions of gene at same location on homologous chromosome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aits are inherited as discrete uni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 each characteristic, an organism inherits 2 alleles, 1 from each par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iploi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ganism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herits 2 sets of chromosomes,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 from each paren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omologous chromosom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ike having 2 editions of encyclopedia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cyclopedia Britannica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cyclopedia American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 flipH="1">
            <a:off x="26172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2387520" y="5548320"/>
            <a:ext cx="2433600" cy="1136520"/>
          </a:xfrm>
          <a:prstGeom prst="wedgeEllipseCallout">
            <a:avLst>
              <a:gd name="adj1" fmla="val 93962"/>
              <a:gd name="adj2" fmla="val -2598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at are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advantages of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being diploid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did Mendel’s findings mean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me traits mask other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b03b3"/>
                </a:solidFill>
                <a:uFillTx/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&amp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it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flower colors are separate traits that do not blend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3b3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≠ </a:t>
            </a:r>
            <a:r>
              <a:rPr b="1" lang="en-US" sz="2400" spc="-1" strike="noStrike">
                <a:solidFill>
                  <a:srgbClr val="8044bc"/>
                </a:solidFill>
                <a:latin typeface="Arial"/>
              </a:rPr>
              <a:t>light purpl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3b3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masked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ominant allel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unctional protei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asks other allele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recessive allel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lele makes a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alfunctioning protei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0" t="12000" r="24302" b="15603"/>
          <a:stretch/>
        </p:blipFill>
        <p:spPr>
          <a:xfrm rot="16200000">
            <a:off x="5758560" y="3576960"/>
            <a:ext cx="3706920" cy="2657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969600" y="5881680"/>
            <a:ext cx="1262880" cy="47268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mologou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romosom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205760" y="1873080"/>
            <a:ext cx="1836720" cy="1028880"/>
          </a:xfrm>
          <a:prstGeom prst="wedgeEllipseCallout">
            <a:avLst>
              <a:gd name="adj1" fmla="val 65296"/>
              <a:gd name="adj2" fmla="val 127310"/>
            </a:avLst>
          </a:prstGeom>
          <a:solidFill>
            <a:srgbClr val="ffea1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’ll speak for </a:t>
            </a:r>
            <a:br>
              <a:rPr sz="1800"/>
            </a:b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both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of u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s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99760" y="3971520"/>
            <a:ext cx="1573920" cy="70884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wild typ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produc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ctional protei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83120" y="3956040"/>
            <a:ext cx="1459800" cy="9450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uta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produc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function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otype vs. phenotyp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fference between how an organism “looks” &amp; its genetic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henotyp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scription of an organism’s trai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“physical”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enotyp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scription of an organism’s genetic makeup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2560" y="5146560"/>
            <a:ext cx="5410440" cy="1143000"/>
          </a:xfrm>
          <a:custGeom>
            <a:avLst/>
            <a:gdLst>
              <a:gd name="textAreaLeft" fmla="*/ 0 w 5410440"/>
              <a:gd name="textAreaRight" fmla="*/ 5410800 w 54104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xplain Mendel’s results usi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dominant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&amp;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recessive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phenotype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&amp;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genotyp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492960" y="4317840"/>
            <a:ext cx="2555640" cy="2500560"/>
            <a:chOff x="6492960" y="4317840"/>
            <a:chExt cx="2555640" cy="2500560"/>
          </a:xfrm>
        </p:grpSpPr>
        <p:sp>
          <p:nvSpPr>
            <p:cNvPr id="183" name=""/>
            <p:cNvSpPr/>
            <p:nvPr/>
          </p:nvSpPr>
          <p:spPr>
            <a:xfrm>
              <a:off x="6507360" y="600264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02680" y="4624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6950160" y="4352760"/>
              <a:ext cx="7189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"/>
            <a:srcRect l="78757" t="66008" r="4500" b="7504"/>
            <a:stretch/>
          </p:blipFill>
          <p:spPr>
            <a:xfrm>
              <a:off x="8182080" y="4352760"/>
              <a:ext cx="75888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791480" y="4946760"/>
              <a:ext cx="228600" cy="671400"/>
            </a:xfrm>
            <a:prstGeom prst="downArrow">
              <a:avLst>
                <a:gd name="adj1" fmla="val 50000"/>
                <a:gd name="adj2" fmla="val 73425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04000" y="4544640"/>
              <a:ext cx="401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3"/>
            <a:srcRect l="9000" t="66008" r="75379" b="7504"/>
            <a:stretch/>
          </p:blipFill>
          <p:spPr>
            <a:xfrm>
              <a:off x="7545240" y="5721480"/>
              <a:ext cx="7192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908040" y="521784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urpl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13400" y="521784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64160" y="647352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 purpl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92960" y="4317840"/>
              <a:ext cx="2555640" cy="250056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01:03:27Z</dcterms:created>
  <dc:creator>Kim Foglia</dc:creator>
  <dc:description>All Rights Reserved. Copyright 2003. WD Interactive.</dc:description>
  <cp:keywords>Education Biology Zone Kim Foglia</cp:keywords>
  <dc:language>en-US</dc:language>
  <cp:lastModifiedBy>Kim B. Foglia</cp:lastModifiedBy>
  <cp:lastPrinted>2007-04-16T01:01:25Z</cp:lastPrinted>
  <dcterms:modified xsi:type="dcterms:W3CDTF">2009-03-15T22:21:40Z</dcterms:modified>
  <cp:revision>191</cp:revision>
  <dc:subject>AP &amp; Regents Biology</dc:subject>
  <dc:title>Family resemblance can be striking!</dc:title>
</cp:coreProperties>
</file>